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C616-CA1D-4652-B04D-FC47CAF8A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6E389-A8E5-466D-B827-33D76F06A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BFF8-676A-47A3-A32B-A1E0959F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FC42-D4D9-4662-92EF-DCC6C1768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5D258-1C49-401C-A703-DC025029F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7FAB4-08BC-45BA-B16A-A375FFDB8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7349-C339-450C-A0D7-064F681E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AD130-E35B-4648-9713-9221851C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D7306-8A83-4BB0-8387-3F0D4327F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7CB99-8062-4881-B3AD-72FA74B87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6B9D4-9652-436B-962D-756AA791C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4178-24AA-4895-9725-5BCB825C6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3AFF9-1947-46D1-92F5-2178AB000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9BA05-5826-43DA-A3A0-A0ED7FBEF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A62CF-6257-43D2-9F39-D447A1EA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B8EBF-F6D5-47C5-84CE-6526582A4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0F32-1ED1-4D37-80F3-1A2211160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194A-C805-4563-AB77-2DEAB108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ED20-4EBF-4BB1-8AC5-A54EF75F9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AACD6-ED9A-422F-957D-603183DE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5648-7317-46AF-A3CF-456DC0DAD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5C2BF-F94C-44AC-AA49-7D5AFBE6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FB93-F8EA-4FB8-9C37-4C0AA78E3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BBBA3-597F-4BBE-8F4C-A81E9C4EC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8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1066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5049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933960" y="6324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2365E-E192-4A87-BE05-D83D595A0E1D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9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3761D-6750-4528-B5E3-2B9889FCDFE2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 and the</a:t>
            </a:r>
            <a:br>
              <a:rPr sz="4400"/>
            </a:b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oost Iterator Adaptor Library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7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avid Abrahams, www.boost.or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Jeremy Siek, Indiana Universit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terator_adaptor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ass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r supplies a policy class and Base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generates a model of Random Access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4114800"/>
            <a:ext cx="4800600" cy="2743200"/>
          </a:xfrm>
          <a:prstGeom prst="ellipse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62360" y="4459320"/>
            <a:ext cx="271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55bad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736640" y="4175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286000" y="5638680"/>
            <a:ext cx="1981080" cy="990720"/>
          </a:xfrm>
          <a:prstGeom prst="ellipse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Base 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362320" y="5181480"/>
            <a:ext cx="1828800" cy="533520"/>
          </a:xfrm>
          <a:prstGeom prst="rect">
            <a:avLst/>
          </a:prstGeom>
          <a:solidFill>
            <a:srgbClr val="555bad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438280" y="5257800"/>
            <a:ext cx="169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Policy Clas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562720" y="4419720"/>
            <a:ext cx="3581280" cy="685800"/>
          </a:xfrm>
          <a:prstGeom prst="rect">
            <a:avLst/>
          </a:prstGeom>
          <a:solidFill>
            <a:srgbClr val="ebd189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5bad"/>
                </a:solidFill>
                <a:latin typeface="Monaco"/>
              </a:rPr>
              <a:t>default_iterator_policies</a:t>
            </a:r>
            <a:endParaRPr b="0" lang="en-US" sz="1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4191120" y="5105520"/>
            <a:ext cx="1295280" cy="304560"/>
          </a:xfrm>
          <a:prstGeom prst="line">
            <a:avLst/>
          </a:prstGeom>
          <a:ln w="38160">
            <a:solidFill>
              <a:srgbClr val="0000ff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emplate paramete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ase – the underlying adapted typ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olicies – defines implementation of core behavi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Associated Types: Value, Reference, Pointer, and Categor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ometimes deducible from Base (e.g.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verse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But not always (e.g.,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Desig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fault policies class forwards all operations to the Base typ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default_iterator_policies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Example Us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066320" y="1676160"/>
            <a:ext cx="80773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Monaco"/>
              </a:rPr>
              <a:t>indirect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solves container of pointers problem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uct indirec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: public default_iterator_policie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const IterAdaptor&amp; x) cons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{ return **x.base(); 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990720" y="2057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indirect_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548640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itera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indirec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default_iterator_policies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76520" y="5181480"/>
            <a:ext cx="2590560" cy="533520"/>
          </a:xfrm>
          <a:prstGeom prst="roundRect">
            <a:avLst>
              <a:gd name="adj" fmla="val 50000"/>
            </a:avLst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55bad"/>
                </a:solidFill>
                <a:latin typeface="Arial"/>
              </a:rPr>
              <a:t>value_type</a:t>
            </a: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4267080" y="396252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dereference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42" name=""/>
          <p:cNvCxnSpPr>
            <a:stCxn id="136" idx="6"/>
            <a:endCxn id="138" idx="1"/>
          </p:cNvCxnSpPr>
          <p:nvPr/>
        </p:nvCxnSpPr>
        <p:spPr>
          <a:xfrm>
            <a:off x="4343040" y="2628720"/>
            <a:ext cx="1143720" cy="11484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8" idx="2"/>
            <a:endCxn id="139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endCxn id="141" idx="0"/>
          </p:cNvCxnSpPr>
          <p:nvPr/>
        </p:nvCxnSpPr>
        <p:spPr>
          <a:xfrm flipH="1">
            <a:off x="5649480" y="332748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41" idx="2"/>
            <a:endCxn id="140" idx="3"/>
          </p:cNvCxnSpPr>
          <p:nvPr/>
        </p:nvCxnSpPr>
        <p:spPr>
          <a:xfrm flipH="1">
            <a:off x="4266360" y="4876560"/>
            <a:ext cx="808920" cy="57204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41" idx="2"/>
            <a:endCxn id="137" idx="6"/>
          </p:cNvCxnSpPr>
          <p:nvPr/>
        </p:nvCxnSpPr>
        <p:spPr>
          <a:xfrm flipH="1">
            <a:off x="4266360" y="4876560"/>
            <a:ext cx="808920" cy="118188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9" idx="1"/>
            <a:endCxn id="137" idx="6"/>
          </p:cNvCxnSpPr>
          <p:nvPr/>
        </p:nvCxnSpPr>
        <p:spPr>
          <a:xfrm flipH="1" flipV="1">
            <a:off x="4266360" y="6057360"/>
            <a:ext cx="1220040" cy="385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Redundant public interface reduced to core polici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ference operator*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3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3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fault_iterator_policies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orwards behavior to the underlying iterat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emplate &lt;class IterAdaptor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typename IterAdaptor::referenc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dereference(IterAdaptor&amp; x) {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turn *x.base(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// more of the same ..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nstant/mutable iterator interactions should work: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 a, 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onst_iterator ca,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b;   a - 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b;  ca - cb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a == cb;  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a == cb; ca - cb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ll four combinations implemented with one function templ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template &lt;class B1, class B2, class P, class V1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V2, class R1, class R2, class P1, 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class P2, class Cat, class Dist&gt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bool operator==(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1,Policies,V1,R1,P1,Cat,Dist&gt; x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iterator_adaptor&lt;B2,Policies,V2,R2,P2,Cat,Dist&gt; y)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return x.policies().equal(x.iter(), y.iter()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cccc"/>
                </a:solidFill>
                <a:latin typeface="Arial"/>
              </a:rPr>
              <a:t>Metaprogramming Detail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Redundant associated types handled via smart defaul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alue type, iterator category, and difference type obtained from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ference and pointer type: if Value explicitly specified then Value&amp;, Value*, otherwise use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std::iterator_traits&lt;Base&gt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move_const&lt;Value&gt;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value_type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put iterator dereference may return by-valu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would return a pointer to a temporary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pointer operator-&gt;() const {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return &amp;policies().dereference(*this);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	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  </a:t>
            </a:r>
            <a:r>
              <a:rPr b="0" lang="en-US" sz="2100" spc="-1" strike="noStrike">
                <a:solidFill>
                  <a:srgbClr val="eaeaea"/>
                </a:solidFill>
                <a:latin typeface="Monaco"/>
              </a:rPr>
              <a:t>}</a:t>
            </a:r>
            <a:endParaRPr b="0" lang="en-US" sz="2100" spc="-1" strike="noStrike">
              <a:solidFill>
                <a:srgbClr val="eaeaea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Instead return a proxy object that contains the value and has a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Proxy has lifetime of the full express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aïve implementation of </a:t>
            </a:r>
            <a:r>
              <a:rPr b="0" lang="en-US" sz="2800" spc="-1" strike="noStrike">
                <a:solidFill>
                  <a:srgbClr val="eaeaea"/>
                </a:solidFill>
                <a:latin typeface="Monaco"/>
              </a:rPr>
              <a:t>operator[]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reference operator[](difference_type n)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    </a:t>
            </a:r>
            <a:r>
              <a:rPr b="0" lang="en-US" sz="2000" spc="-1" strike="noStrike">
                <a:solidFill>
                  <a:srgbClr val="eaeaea"/>
                </a:solidFill>
                <a:latin typeface="Monaco"/>
              </a:rPr>
              <a:t>{ return *(*this+n); }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sider a disk-based iterator that reads in and caches the objec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(*this + n)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creates a temporary iterat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afe solution: return by valu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Implementation</a:t>
            </a: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y need additional stat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Example: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rided_iterator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needs to store strid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ution: store state in policies class; store instance of policies class in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iterator_adap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 Design Patter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new models of a concept (or a family of concepts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Generates adaptors to selectively modify a behavioral aspect of any model of the concept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1. Identify core aspects of behavior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r iterator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raversa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istance measuremen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Associated type exposur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2. Define policy interface that encapsulates the core asp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3. Write default policies class that dispatches to concept’s public interfa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4. Build the adaptor clas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Generalized model of concep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arameterized on Policies class and Base typ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ublic interface delegates work to Policies class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990720" indent="-533520">
              <a:spcBef>
                <a:spcPts val="601"/>
              </a:spcBef>
              <a:buClr>
                <a:srgbClr val="cc0000"/>
              </a:buClr>
              <a:buSzPct val="70000"/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Stores Policies instance as a data membe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Behavior Deleg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1752480"/>
            <a:ext cx="335304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Adaptor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914400" y="4876920"/>
            <a:ext cx="3352680" cy="1143000"/>
          </a:xfrm>
          <a:prstGeom prst="ellipse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Base Type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486400" y="2209680"/>
            <a:ext cx="3429000" cy="106704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55bad"/>
                </a:solidFill>
                <a:latin typeface="Arial"/>
              </a:rPr>
              <a:t>Policies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486400" y="5562720"/>
            <a:ext cx="3429000" cy="1066680"/>
          </a:xfrm>
          <a:prstGeom prst="rect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5bad"/>
                </a:solidFill>
                <a:latin typeface="Arial"/>
              </a:rPr>
              <a:t>Default Policies</a:t>
            </a:r>
            <a:endParaRPr b="0" lang="en-US" sz="28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24280" y="3886200"/>
            <a:ext cx="2057400" cy="914400"/>
          </a:xfrm>
          <a:prstGeom prst="irregularSeal1">
            <a:avLst/>
          </a:prstGeom>
          <a:solidFill>
            <a:srgbClr val="fcab40"/>
          </a:solidFill>
          <a:ln w="9360">
            <a:solidFill>
              <a:srgbClr val="eaeae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5bad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eaeaea"/>
              </a:solidFill>
              <a:latin typeface="Times New Roman"/>
            </a:endParaRPr>
          </a:p>
        </p:txBody>
      </p:sp>
      <p:cxnSp>
        <p:nvCxnSpPr>
          <p:cNvPr id="180" name=""/>
          <p:cNvCxnSpPr>
            <a:stCxn id="175" idx="6"/>
            <a:endCxn id="177" idx="1"/>
          </p:cNvCxnSpPr>
          <p:nvPr/>
        </p:nvCxnSpPr>
        <p:spPr>
          <a:xfrm>
            <a:off x="4419360" y="2324160"/>
            <a:ext cx="1067400" cy="419760"/>
          </a:xfrm>
          <a:prstGeom prst="straightConnector1">
            <a:avLst/>
          </a:prstGeom>
          <a:ln w="19044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1" name=""/>
          <p:cNvCxnSpPr>
            <a:stCxn id="177" idx="2"/>
            <a:endCxn id="178" idx="0"/>
          </p:cNvCxnSpPr>
          <p:nvPr/>
        </p:nvCxnSpPr>
        <p:spPr>
          <a:xfrm>
            <a:off x="7200720" y="3276720"/>
            <a:ext cx="1080" cy="228672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2" name=""/>
          <p:cNvCxnSpPr>
            <a:endCxn id="179" idx="0"/>
          </p:cNvCxnSpPr>
          <p:nvPr/>
        </p:nvCxnSpPr>
        <p:spPr>
          <a:xfrm flipH="1">
            <a:off x="6106680" y="3251160"/>
            <a:ext cx="240480" cy="6357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3" name=""/>
          <p:cNvCxnSpPr>
            <a:stCxn id="179" idx="1"/>
            <a:endCxn id="176" idx="6"/>
          </p:cNvCxnSpPr>
          <p:nvPr/>
        </p:nvCxnSpPr>
        <p:spPr>
          <a:xfrm flipH="1">
            <a:off x="4266720" y="4250880"/>
            <a:ext cx="457920" cy="1197360"/>
          </a:xfrm>
          <a:prstGeom prst="straightConnector1">
            <a:avLst/>
          </a:prstGeom>
          <a:ln w="38160">
            <a:solidFill>
              <a:srgbClr val="fafa05"/>
            </a:solidFill>
            <a:miter/>
            <a:tailEnd len="med" type="triangle" w="med"/>
          </a:ln>
        </p:spPr>
      </p:cxnSp>
      <p:cxnSp>
        <p:nvCxnSpPr>
          <p:cNvPr id="184" name=""/>
          <p:cNvCxnSpPr>
            <a:stCxn id="178" idx="1"/>
            <a:endCxn id="176" idx="5"/>
          </p:cNvCxnSpPr>
          <p:nvPr/>
        </p:nvCxnSpPr>
        <p:spPr>
          <a:xfrm flipH="1" flipV="1">
            <a:off x="3776040" y="5852880"/>
            <a:ext cx="1710360" cy="243360"/>
          </a:xfrm>
          <a:prstGeom prst="straightConnector1">
            <a:avLst/>
          </a:prstGeom>
          <a:ln w="152280">
            <a:solidFill>
              <a:srgbClr val="fafa0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olicy Adaptor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 design pattern applicable when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has multiple orthogonal aspect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s with “rich” interface (redundant functions for ease of use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cept is popular, i.e., it is a common task to create new models of the concep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tainer of polymorphic objec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Use a container of pointers?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vector&lt;Base*&gt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Better: create a wrapper to make it look like a container of objects (not pointers) 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o implement, need an iterator adaptor to dereference the point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oost Iterator Adaptor Library automates creation of itera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Factors out functional redundanc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while reusing othe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akes simple ideas easy to implemen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 are a powerful design pattern for creating models of rich concept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terator adaptors are everywhe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VTL – M. Weiser &amp; G. Powel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ate Iterator – Jeff Garlan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std::reverse_iterato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Checked_iter</a:t>
            </a:r>
            <a:r>
              <a:rPr b="0" lang="en-US" sz="2800" spc="-1" strike="noStrike">
                <a:solidFill>
                  <a:srgbClr val="eaeaea"/>
                </a:solidFill>
                <a:latin typeface="Courier New"/>
              </a:rPr>
              <a:t> 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– Bjarne Stroustr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mart Iterators – T. Becke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mpound Iterators – A. Alexandresc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TL &amp; BGL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Nonetheless, programmers often give up on the idea of creating a new iterator, instead resorting to rewriting algorithms. Why?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Tediou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ubtl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op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Prefix and Postfix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++  --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Dereferencing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*  -&gt;  [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Comparison:  </a:t>
            </a:r>
            <a:r>
              <a:rPr b="0" lang="en-US" sz="2400" spc="-1" strike="noStrike">
                <a:solidFill>
                  <a:srgbClr val="eaeaea"/>
                </a:solidFill>
                <a:latin typeface="Courier New"/>
              </a:rPr>
              <a:t>==  !=  &lt;  &lt;=  &gt;  &gt;=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Redundant type informati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reference == value_type&amp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pointer == value_type*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onstant/mutable iterator interaction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 </a:t>
            </a:r>
            <a:r>
              <a:rPr b="0" i="1" lang="en-US" sz="3200" spc="-1" strike="noStrike">
                <a:solidFill>
                  <a:srgbClr val="eaeaea"/>
                </a:solidFill>
                <a:latin typeface="Arial"/>
              </a:rPr>
              <a:t>adaptors</a:t>
            </a: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 is tediou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Change one aspect of behavi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Leave other aspects the sam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Aspects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Mov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ereferenc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Equality Comparison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Dist Measurement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Writing dispatching functions is bor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Motivation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Building iterators is hard to get righ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-&gt;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input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Monaco"/>
              </a:rPr>
              <a:t>operator[]</a:t>
            </a: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 for adapted random access iterator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Overview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Motivat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afa05"/>
                </a:solidFill>
                <a:latin typeface="Arial"/>
              </a:rPr>
              <a:t>Desig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Implementation of the Library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olicy Adaptor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12T20:52:05Z</dcterms:created>
  <dc:creator>Jeremy Siek</dc:creator>
  <dc:description/>
  <dc:language>en-US</dc:language>
  <cp:lastModifiedBy>David Abrahams</cp:lastModifiedBy>
  <dcterms:modified xsi:type="dcterms:W3CDTF">2001-11-01T03:33:38Z</dcterms:modified>
  <cp:revision>45</cp:revision>
  <dc:subject/>
  <dc:title>Policy Adaptors and the Boost Iterator Adaptor Library</dc:title>
</cp:coreProperties>
</file>