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A6FF-8EDA-4A18-859C-D40B3F39A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78960" y="4713120"/>
            <a:ext cx="559908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// (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All with respect to P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left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left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right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righ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lef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same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same&lt;1&gt;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different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different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78960" y="4714560"/>
            <a:ext cx="5527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2015-A270-4E5C-ACFA-0D62FF88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3962-584F-43B1-8847-4C568F76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91C8-B08E-474C-8EE9-708A2E07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C487-E345-473C-B704-7353E7C8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5FC1-2DE9-4AF7-80F0-B8581C70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A498-B0CA-43CA-8763-5A3CBF88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323E-5A4F-412D-9B65-0CA0E008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FE07-835A-4515-BB92-AE67F50D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242A-220B-4CA1-90AD-3F329A8D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F5BC-B3AF-4671-9133-03EA2B8A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7117-6C8D-4D89-90D8-1E93D4DC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4C6-91F7-4EDA-98FD-1F02CA50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3C3B-EB05-4A94-B65E-5C685FB1C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mmetric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i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avel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n intersection we travel everywhere to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 union we travel everywhere to t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rns are measured with respect to two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y sometimes have to be adapted to “Turns-In-Travel-Dir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6720" y="189000"/>
            <a:ext cx="14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6268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3216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94360" y="582480"/>
            <a:ext cx="50652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56200" y="37688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3880" y="73512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560" y="3749760"/>
            <a:ext cx="615960" cy="71100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2720" y="3970440"/>
            <a:ext cx="1227240" cy="95868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5232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2280" y="725400"/>
            <a:ext cx="523800" cy="712800"/>
          </a:xfrm>
          <a:custGeom>
            <a:avLst/>
            <a:gdLst/>
            <a:ahLst/>
            <a:rect l="l" t="t" r="r" b="b"/>
            <a:pathLst>
              <a:path w="330" h="449">
                <a:moveTo>
                  <a:pt x="330" y="0"/>
                </a:moveTo>
                <a:lnTo>
                  <a:pt x="298" y="398"/>
                </a:lnTo>
                <a:lnTo>
                  <a:pt x="7" y="449"/>
                </a:lnTo>
                <a:lnTo>
                  <a:pt x="0" y="175"/>
                </a:lnTo>
                <a:lnTo>
                  <a:pt x="33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364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60640" y="714240"/>
            <a:ext cx="507960" cy="692280"/>
          </a:xfrm>
          <a:custGeom>
            <a:avLst/>
            <a:gdLst/>
            <a:ahLst/>
            <a:rect l="l" t="t" r="r" b="b"/>
            <a:pathLst>
              <a:path w="320" h="436">
                <a:moveTo>
                  <a:pt x="320" y="0"/>
                </a:moveTo>
                <a:lnTo>
                  <a:pt x="312" y="379"/>
                </a:lnTo>
                <a:lnTo>
                  <a:pt x="7" y="436"/>
                </a:lnTo>
                <a:lnTo>
                  <a:pt x="0" y="162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2360" y="961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91000" y="725400"/>
            <a:ext cx="582840" cy="71460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459400" y="736560"/>
            <a:ext cx="517680" cy="692280"/>
          </a:xfrm>
          <a:custGeom>
            <a:avLst/>
            <a:gdLst/>
            <a:ahLst/>
            <a:rect l="l" t="t" r="r" b="b"/>
            <a:pathLst>
              <a:path w="326" h="436">
                <a:moveTo>
                  <a:pt x="326" y="0"/>
                </a:moveTo>
                <a:lnTo>
                  <a:pt x="314" y="372"/>
                </a:lnTo>
                <a:lnTo>
                  <a:pt x="7" y="436"/>
                </a:lnTo>
                <a:lnTo>
                  <a:pt x="0" y="162"/>
                </a:lnTo>
                <a:lnTo>
                  <a:pt x="32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51120" y="984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68480" y="3976560"/>
            <a:ext cx="122724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61120" y="3755880"/>
            <a:ext cx="61596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72280" y="3976560"/>
            <a:ext cx="122688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1152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33800" y="534960"/>
            <a:ext cx="87156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28720" y="204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9440" y="725400"/>
            <a:ext cx="501480" cy="57492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21200" y="3616200"/>
            <a:ext cx="87120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76480" y="3807000"/>
            <a:ext cx="501840" cy="57456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92600" y="70344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57680" y="3755880"/>
            <a:ext cx="61560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70600" y="361620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44600" y="3683160"/>
            <a:ext cx="9360" cy="682560"/>
          </a:xfrm>
          <a:custGeom>
            <a:avLst/>
            <a:gdLst/>
            <a:ahLst/>
            <a:rect l="l" t="t" r="r" b="b"/>
            <a:pathLst>
              <a:path w="6" h="430">
                <a:moveTo>
                  <a:pt x="0" y="430"/>
                </a:moveTo>
                <a:lnTo>
                  <a:pt x="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25000" y="353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0400"/>
            <a:ext cx="573120" cy="800280"/>
          </a:xfrm>
          <a:custGeom>
            <a:avLst/>
            <a:gdLst/>
            <a:ahLst/>
            <a:rect l="l" t="t" r="r" b="b"/>
            <a:pathLst>
              <a:path w="361" h="504">
                <a:moveTo>
                  <a:pt x="0" y="504"/>
                </a:moveTo>
                <a:lnTo>
                  <a:pt x="3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1840" y="376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42040" y="1517760"/>
            <a:ext cx="501480" cy="77760"/>
          </a:xfrm>
          <a:custGeom>
            <a:avLst/>
            <a:gdLst/>
            <a:ahLst/>
            <a:rect l="l" t="t" r="r" b="b"/>
            <a:pathLst>
              <a:path w="316" h="49">
                <a:moveTo>
                  <a:pt x="316" y="0"/>
                </a:moveTo>
                <a:lnTo>
                  <a:pt x="0" y="4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2920" y="1573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720" y="1600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11800" y="836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344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1236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26040" y="515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16120" y="5126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808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7060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67160" y="12733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41600" y="43657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61240" y="4338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87880" y="1346040"/>
            <a:ext cx="573120" cy="473400"/>
          </a:xfrm>
          <a:custGeom>
            <a:avLst/>
            <a:gdLst/>
            <a:ahLst/>
            <a:rect l="l" t="t" r="r" b="b"/>
            <a:pathLst>
              <a:path w="361" h="298">
                <a:moveTo>
                  <a:pt x="0" y="0"/>
                </a:moveTo>
                <a:lnTo>
                  <a:pt x="361" y="29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999040" y="1236600"/>
            <a:ext cx="663840" cy="101520"/>
          </a:xfrm>
          <a:custGeom>
            <a:avLst/>
            <a:gdLst/>
            <a:ahLst/>
            <a:rect l="l" t="t" r="r" b="b"/>
            <a:pathLst>
              <a:path w="418" h="64">
                <a:moveTo>
                  <a:pt x="0" y="64"/>
                </a:moveTo>
                <a:lnTo>
                  <a:pt x="41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16360" y="189000"/>
            <a:ext cx="162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67360" y="138276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320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13080" y="2084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58000" y="1339920"/>
            <a:ext cx="582480" cy="728640"/>
          </a:xfrm>
          <a:custGeom>
            <a:avLst/>
            <a:gdLst/>
            <a:ahLst/>
            <a:rect l="l" t="t" r="r" b="b"/>
            <a:pathLst>
              <a:path w="367" h="459">
                <a:moveTo>
                  <a:pt x="0" y="0"/>
                </a:moveTo>
                <a:lnTo>
                  <a:pt x="367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6716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3664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81560" y="582480"/>
            <a:ext cx="50616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964120" y="4443480"/>
            <a:ext cx="436680" cy="1355760"/>
          </a:xfrm>
          <a:custGeom>
            <a:avLst/>
            <a:gdLst/>
            <a:ahLst/>
            <a:rect l="l" t="t" r="r" b="b"/>
            <a:pathLst>
              <a:path w="275" h="854">
                <a:moveTo>
                  <a:pt x="2" y="854"/>
                </a:moveTo>
                <a:lnTo>
                  <a:pt x="0" y="0"/>
                </a:lnTo>
                <a:lnTo>
                  <a:pt x="275" y="360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58000" y="4381560"/>
            <a:ext cx="595080" cy="798480"/>
          </a:xfrm>
          <a:custGeom>
            <a:avLst/>
            <a:gdLst/>
            <a:ahLst/>
            <a:rect l="l" t="t" r="r" b="b"/>
            <a:pathLst>
              <a:path w="375" h="503">
                <a:moveTo>
                  <a:pt x="0" y="0"/>
                </a:moveTo>
                <a:lnTo>
                  <a:pt x="375" y="5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67160" y="3757680"/>
            <a:ext cx="59832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81560" y="360504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98440" y="73512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193760" y="78588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657080" y="903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79760" y="7462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75080" y="79704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38040" y="914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65920" y="733320"/>
            <a:ext cx="47772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1240" y="784080"/>
            <a:ext cx="711000" cy="73692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24200" y="901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09600" y="374976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0240" y="3965400"/>
            <a:ext cx="95112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3440" y="428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71840" y="37576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22480" y="3973680"/>
            <a:ext cx="951120" cy="85860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55680" y="4295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72040" y="3774960"/>
            <a:ext cx="47808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23040" y="3990960"/>
            <a:ext cx="95076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55880" y="431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0000" y="817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67640" y="549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70760" y="1498680"/>
            <a:ext cx="506160" cy="533160"/>
          </a:xfrm>
          <a:custGeom>
            <a:avLst/>
            <a:gdLst/>
            <a:ahLst/>
            <a:rect l="l" t="t" r="r" b="b"/>
            <a:pathLst>
              <a:path w="319" h="336">
                <a:moveTo>
                  <a:pt x="0" y="0"/>
                </a:moveTo>
                <a:lnTo>
                  <a:pt x="319" y="33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38760" y="20145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796000" y="69372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81440" y="501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44000" y="4624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07080" y="397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6200" y="4137120"/>
            <a:ext cx="549360" cy="237960"/>
          </a:xfrm>
          <a:custGeom>
            <a:avLst/>
            <a:gdLst/>
            <a:ahLst/>
            <a:rect l="l" t="t" r="r" b="b"/>
            <a:pathLst>
              <a:path w="346" h="150">
                <a:moveTo>
                  <a:pt x="346" y="15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0440" y="4027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58960" y="3757680"/>
            <a:ext cx="352440" cy="623880"/>
          </a:xfrm>
          <a:custGeom>
            <a:avLst/>
            <a:gdLst/>
            <a:ahLst/>
            <a:rect l="l" t="t" r="r" b="b"/>
            <a:pathLst>
              <a:path w="222" h="393">
                <a:moveTo>
                  <a:pt x="222" y="393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0920" y="49417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1720" y="36068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73320" y="4229280"/>
            <a:ext cx="647640" cy="304560"/>
          </a:xfrm>
          <a:custGeom>
            <a:avLst/>
            <a:gdLst/>
            <a:ahLst/>
            <a:rect l="l" t="t" r="r" b="b"/>
            <a:pathLst>
              <a:path w="408" h="192">
                <a:moveTo>
                  <a:pt x="0" y="0"/>
                </a:moveTo>
                <a:lnTo>
                  <a:pt x="408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704240" y="451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13080" y="5156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36640" y="5140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977080" y="1312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73840" y="43434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508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71840" y="4327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907920"/>
            <a:ext cx="8280360" cy="58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the code, we have it in a different way. We have it such that each segment arrives/departs at the intersection point, independantly of the other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could change the structure of the code (and maybe we will) but it sufficed for all other case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arriving; the other seg_id denotes Q, either arriv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or depart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; we know that because the “how” is an ‘a’ (angle) or ‘t’ ( both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ar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t each join, a segment will meet three other segments, one other arriving there, two others departing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don’t have the information how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s situated with respect to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we never needed that before. But we can calculate that on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3 segments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90440" y="541656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08080" y="544824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02920" y="5624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579600" y="117144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80960" y="14446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38280" y="148608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04760" y="183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57200" y="1289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77840" y="1235160"/>
            <a:ext cx="720720" cy="7596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206800" y="17827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04880" y="15350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4760" y="2830680"/>
            <a:ext cx="4701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Partly) collinear segments having opposite directions should never be travelled. Not for a union (because one polygon will be formed, consisting both), not for an intersection (because both opposite segments have both the polygon on their right side – there is no intersection the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ir intersection points can all be adapted to the Left travel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32040" y="112536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70440" y="12304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91080" y="144000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493880" y="1616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09640" y="1243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30640" y="1189080"/>
            <a:ext cx="720720" cy="7632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95920" y="15685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194000" y="13208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80000" y="1989000"/>
            <a:ext cx="1944360" cy="223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9376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0654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71360" y="914400"/>
            <a:ext cx="1005120" cy="1104840"/>
          </a:xfrm>
          <a:custGeom>
            <a:avLst/>
            <a:gdLst/>
            <a:ahLst/>
            <a:rect l="l" t="t" r="r" b="b"/>
            <a:pathLst>
              <a:path w="633" h="696">
                <a:moveTo>
                  <a:pt x="443" y="696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443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8584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9556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3000" y="1351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1800" y="82404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67200" y="71280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14784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746080" y="687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3800" y="681120"/>
            <a:ext cx="10800" cy="563400"/>
          </a:xfrm>
          <a:custGeom>
            <a:avLst/>
            <a:gdLst/>
            <a:ahLst/>
            <a:rect l="l" t="t" r="r" b="b"/>
            <a:pathLst>
              <a:path w="7" h="355">
                <a:moveTo>
                  <a:pt x="0" y="355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15600" y="549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4512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5484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2576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567120" y="1312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64200" y="874800"/>
            <a:ext cx="433440" cy="1054080"/>
          </a:xfrm>
          <a:custGeom>
            <a:avLst/>
            <a:gdLst/>
            <a:ahLst/>
            <a:rect l="l" t="t" r="r" b="b"/>
            <a:pathLst>
              <a:path w="273" h="664">
                <a:moveTo>
                  <a:pt x="203" y="664"/>
                </a:moveTo>
                <a:lnTo>
                  <a:pt x="0" y="341"/>
                </a:lnTo>
                <a:lnTo>
                  <a:pt x="2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7528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037360" y="712800"/>
            <a:ext cx="56700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1836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67280" y="1260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888320" y="622440"/>
            <a:ext cx="1440" cy="723600"/>
          </a:xfrm>
          <a:custGeom>
            <a:avLst/>
            <a:gdLst/>
            <a:ahLst/>
            <a:rect l="l" t="t" r="r" b="b"/>
            <a:pathLst>
              <a:path w="1" h="456">
                <a:moveTo>
                  <a:pt x="0" y="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94200" y="30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43840" y="620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05040" y="1647720"/>
            <a:ext cx="301320" cy="652680"/>
          </a:xfrm>
          <a:custGeom>
            <a:avLst/>
            <a:gdLst/>
            <a:ahLst/>
            <a:rect l="l" t="t" r="r" b="b"/>
            <a:pathLst>
              <a:path w="190" h="411">
                <a:moveTo>
                  <a:pt x="190" y="0"/>
                </a:moveTo>
                <a:lnTo>
                  <a:pt x="0" y="41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9400" y="21621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508600" y="2147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088480" y="1608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556400" y="592200"/>
            <a:ext cx="954360" cy="1498680"/>
          </a:xfrm>
          <a:custGeom>
            <a:avLst/>
            <a:gdLst/>
            <a:ahLst/>
            <a:rect l="l" t="t" r="r" b="b"/>
            <a:pathLst>
              <a:path w="601" h="944">
                <a:moveTo>
                  <a:pt x="430" y="944"/>
                </a:moveTo>
                <a:lnTo>
                  <a:pt x="0" y="551"/>
                </a:lnTo>
                <a:lnTo>
                  <a:pt x="361" y="0"/>
                </a:lnTo>
                <a:lnTo>
                  <a:pt x="601" y="184"/>
                </a:lnTo>
                <a:lnTo>
                  <a:pt x="297" y="519"/>
                </a:lnTo>
                <a:lnTo>
                  <a:pt x="570" y="811"/>
                </a:lnTo>
                <a:lnTo>
                  <a:pt x="430" y="9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35760" y="954000"/>
            <a:ext cx="772920" cy="944640"/>
          </a:xfrm>
          <a:custGeom>
            <a:avLst/>
            <a:gdLst/>
            <a:ahLst/>
            <a:rect l="l" t="t" r="r" b="b"/>
            <a:pathLst>
              <a:path w="487" h="595">
                <a:moveTo>
                  <a:pt x="221" y="59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221" y="59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4200" y="528480"/>
            <a:ext cx="1040040" cy="1638360"/>
          </a:xfrm>
          <a:custGeom>
            <a:avLst/>
            <a:gdLst/>
            <a:ahLst/>
            <a:rect l="l" t="t" r="r" b="b"/>
            <a:pathLst>
              <a:path w="655" h="1032">
                <a:moveTo>
                  <a:pt x="127" y="945"/>
                </a:moveTo>
                <a:lnTo>
                  <a:pt x="440" y="1032"/>
                </a:ln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127" y="9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76560" y="511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047080" y="511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056440" y="833400"/>
            <a:ext cx="565200" cy="1185840"/>
          </a:xfrm>
          <a:custGeom>
            <a:avLst/>
            <a:gdLst/>
            <a:ahLst/>
            <a:rect l="l" t="t" r="r" b="b"/>
            <a:pathLst>
              <a:path w="356" h="747">
                <a:moveTo>
                  <a:pt x="356" y="747"/>
                </a:moveTo>
                <a:lnTo>
                  <a:pt x="0" y="373"/>
                </a:lnTo>
                <a:lnTo>
                  <a:pt x="3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13160" y="83340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1760" y="4941720"/>
            <a:ext cx="1326960" cy="696960"/>
          </a:xfrm>
          <a:custGeom>
            <a:avLst/>
            <a:gdLst/>
            <a:ahLst/>
            <a:rect l="l" t="t" r="r" b="b"/>
            <a:pathLst>
              <a:path w="836" h="439">
                <a:moveTo>
                  <a:pt x="836" y="135"/>
                </a:moveTo>
                <a:lnTo>
                  <a:pt x="570" y="439"/>
                </a:lnTo>
                <a:lnTo>
                  <a:pt x="0" y="249"/>
                </a:lnTo>
                <a:lnTo>
                  <a:pt x="493" y="0"/>
                </a:lnTo>
                <a:lnTo>
                  <a:pt x="836" y="1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20348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7440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15680" y="5183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2440" y="4951440"/>
            <a:ext cx="1496880" cy="425520"/>
          </a:xfrm>
          <a:custGeom>
            <a:avLst/>
            <a:gdLst/>
            <a:ahLst/>
            <a:rect l="l" t="t" r="r" b="b"/>
            <a:pathLst>
              <a:path w="943" h="268">
                <a:moveTo>
                  <a:pt x="0" y="268"/>
                </a:moveTo>
                <a:lnTo>
                  <a:pt x="542" y="0"/>
                </a:lnTo>
                <a:lnTo>
                  <a:pt x="943" y="1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3920" y="402444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40520" y="404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53072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14640" y="4906800"/>
            <a:ext cx="1717560" cy="1055880"/>
          </a:xfrm>
          <a:custGeom>
            <a:avLst/>
            <a:gdLst/>
            <a:ahLst/>
            <a:rect l="l" t="t" r="r" b="b"/>
            <a:pathLst>
              <a:path w="1082" h="665">
                <a:moveTo>
                  <a:pt x="880" y="0"/>
                </a:moveTo>
                <a:lnTo>
                  <a:pt x="1082" y="209"/>
                </a:lnTo>
                <a:lnTo>
                  <a:pt x="664" y="665"/>
                </a:lnTo>
                <a:lnTo>
                  <a:pt x="0" y="260"/>
                </a:lnTo>
                <a:lnTo>
                  <a:pt x="171" y="0"/>
                </a:lnTo>
                <a:lnTo>
                  <a:pt x="587" y="226"/>
                </a:lnTo>
                <a:lnTo>
                  <a:pt x="8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7512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1460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282400" y="5162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55840" y="4797360"/>
            <a:ext cx="1276200" cy="478080"/>
          </a:xfrm>
          <a:custGeom>
            <a:avLst/>
            <a:gdLst/>
            <a:ahLst/>
            <a:rect l="l" t="t" r="r" b="b"/>
            <a:pathLst>
              <a:path w="804" h="301">
                <a:moveTo>
                  <a:pt x="0" y="31"/>
                </a:moveTo>
                <a:lnTo>
                  <a:pt x="453" y="301"/>
                </a:lnTo>
                <a:lnTo>
                  <a:pt x="8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1980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516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3448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65600" y="5226120"/>
            <a:ext cx="1067040" cy="495360"/>
          </a:xfrm>
          <a:custGeom>
            <a:avLst/>
            <a:gdLst/>
            <a:ahLst/>
            <a:rect l="l" t="t" r="r" b="b"/>
            <a:pathLst>
              <a:path w="672" h="312">
                <a:moveTo>
                  <a:pt x="672" y="198"/>
                </a:moveTo>
                <a:lnTo>
                  <a:pt x="314" y="312"/>
                </a:lnTo>
                <a:lnTo>
                  <a:pt x="0" y="208"/>
                </a:lnTo>
                <a:lnTo>
                  <a:pt x="360" y="0"/>
                </a:lnTo>
                <a:lnTo>
                  <a:pt x="672" y="1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6096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1322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81240" y="5386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2120" y="5514840"/>
            <a:ext cx="1215720" cy="219240"/>
          </a:xfrm>
          <a:custGeom>
            <a:avLst/>
            <a:gdLst/>
            <a:ahLst/>
            <a:rect l="l" t="t" r="r" b="b"/>
            <a:pathLst>
              <a:path w="766" h="138">
                <a:moveTo>
                  <a:pt x="766" y="19"/>
                </a:moveTo>
                <a:lnTo>
                  <a:pt x="396" y="13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938920" y="400536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8856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083360" y="4718160"/>
            <a:ext cx="1898640" cy="996840"/>
          </a:xfrm>
          <a:custGeom>
            <a:avLst/>
            <a:gdLst/>
            <a:ahLst/>
            <a:rect l="l" t="t" r="r" b="b"/>
            <a:pathLst>
              <a:path w="1196" h="628">
                <a:moveTo>
                  <a:pt x="1074" y="574"/>
                </a:moveTo>
                <a:lnTo>
                  <a:pt x="1196" y="338"/>
                </a:lnTo>
                <a:lnTo>
                  <a:pt x="528" y="0"/>
                </a:lnTo>
                <a:lnTo>
                  <a:pt x="0" y="379"/>
                </a:lnTo>
                <a:lnTo>
                  <a:pt x="178" y="628"/>
                </a:lnTo>
                <a:lnTo>
                  <a:pt x="602" y="352"/>
                </a:lnTo>
                <a:lnTo>
                  <a:pt x="1074" y="57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04384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11512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267680" y="5275440"/>
            <a:ext cx="1565280" cy="522000"/>
          </a:xfrm>
          <a:custGeom>
            <a:avLst/>
            <a:gdLst/>
            <a:ahLst/>
            <a:rect l="l" t="t" r="r" b="b"/>
            <a:pathLst>
              <a:path w="986" h="329">
                <a:moveTo>
                  <a:pt x="986" y="239"/>
                </a:moveTo>
                <a:lnTo>
                  <a:pt x="489" y="0"/>
                </a:lnTo>
                <a:lnTo>
                  <a:pt x="0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58888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251480" y="5241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53080" y="2793960"/>
            <a:ext cx="523800" cy="1330200"/>
          </a:xfrm>
          <a:custGeom>
            <a:avLst/>
            <a:gdLst/>
            <a:ahLst/>
            <a:rect l="l" t="t" r="r" b="b"/>
            <a:pathLst>
              <a:path w="330" h="838">
                <a:moveTo>
                  <a:pt x="25" y="838"/>
                </a:moveTo>
                <a:lnTo>
                  <a:pt x="0" y="84"/>
                </a:lnTo>
                <a:lnTo>
                  <a:pt x="330" y="0"/>
                </a:lnTo>
                <a:lnTo>
                  <a:pt x="313" y="662"/>
                </a:lnTo>
                <a:lnTo>
                  <a:pt x="25" y="83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24080" y="3659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7560" y="2928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214880" y="2066760"/>
            <a:ext cx="1230120" cy="809640"/>
          </a:xfrm>
          <a:custGeom>
            <a:avLst/>
            <a:gdLst/>
            <a:ahLst/>
            <a:rect l="l" t="t" r="r" b="b"/>
            <a:pathLst>
              <a:path w="775" h="510">
                <a:moveTo>
                  <a:pt x="0" y="236"/>
                </a:moveTo>
                <a:lnTo>
                  <a:pt x="100" y="510"/>
                </a:lnTo>
                <a:lnTo>
                  <a:pt x="775" y="246"/>
                </a:lnTo>
                <a:lnTo>
                  <a:pt x="679" y="0"/>
                </a:lnTo>
                <a:lnTo>
                  <a:pt x="0" y="2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48040" y="2752560"/>
            <a:ext cx="6480" cy="1397160"/>
          </a:xfrm>
          <a:custGeom>
            <a:avLst/>
            <a:gdLst/>
            <a:ahLst/>
            <a:rect l="l" t="t" r="r" b="b"/>
            <a:pathLst>
              <a:path w="4" h="880">
                <a:moveTo>
                  <a:pt x="4" y="8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211640" y="2463840"/>
            <a:ext cx="1260360" cy="501480"/>
          </a:xfrm>
          <a:custGeom>
            <a:avLst/>
            <a:gdLst/>
            <a:ahLst/>
            <a:rect l="l" t="t" r="r" b="b"/>
            <a:pathLst>
              <a:path w="794" h="316">
                <a:moveTo>
                  <a:pt x="794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22200" y="3357720"/>
            <a:ext cx="74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ver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71360" y="1139760"/>
            <a:ext cx="1014480" cy="1135080"/>
          </a:xfrm>
          <a:custGeom>
            <a:avLst/>
            <a:gdLst/>
            <a:ahLst/>
            <a:rect l="l" t="t" r="r" b="b"/>
            <a:pathLst>
              <a:path w="639" h="715">
                <a:moveTo>
                  <a:pt x="639" y="715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639" y="71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8584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9556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6648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33000" y="1576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31800" y="1049400"/>
            <a:ext cx="573120" cy="1366920"/>
          </a:xfrm>
          <a:custGeom>
            <a:avLst/>
            <a:gdLst/>
            <a:ahLst/>
            <a:rect l="l" t="t" r="r" b="b"/>
            <a:pathLst>
              <a:path w="361" h="861">
                <a:moveTo>
                  <a:pt x="0" y="0"/>
                </a:moveTo>
                <a:lnTo>
                  <a:pt x="361" y="373"/>
                </a:lnTo>
                <a:lnTo>
                  <a:pt x="349" y="86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6720" y="18900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0200" y="374652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20840" y="51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19080" y="3720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4512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05484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12576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4480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64200" y="1095480"/>
            <a:ext cx="568440" cy="1276200"/>
          </a:xfrm>
          <a:custGeom>
            <a:avLst/>
            <a:gdLst/>
            <a:ahLst/>
            <a:rect l="l" t="t" r="r" b="b"/>
            <a:pathLst>
              <a:path w="358" h="804">
                <a:moveTo>
                  <a:pt x="358" y="804"/>
                </a:moveTo>
                <a:lnTo>
                  <a:pt x="0" y="344"/>
                </a:lnTo>
                <a:lnTo>
                  <a:pt x="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75280" y="18900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037360" y="4033800"/>
            <a:ext cx="56700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18360" y="5403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52880" y="4594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386560" y="54687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,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088480" y="4929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56400" y="4130640"/>
            <a:ext cx="905040" cy="1281240"/>
          </a:xfrm>
          <a:custGeom>
            <a:avLst/>
            <a:gdLst/>
            <a:ahLst/>
            <a:rect l="l" t="t" r="r" b="b"/>
            <a:pathLst>
              <a:path w="570" h="807">
                <a:moveTo>
                  <a:pt x="430" y="807"/>
                </a:moveTo>
                <a:lnTo>
                  <a:pt x="0" y="414"/>
                </a:lnTo>
                <a:lnTo>
                  <a:pt x="310" y="0"/>
                </a:lnTo>
                <a:lnTo>
                  <a:pt x="297" y="382"/>
                </a:lnTo>
                <a:lnTo>
                  <a:pt x="570" y="674"/>
                </a:lnTo>
                <a:lnTo>
                  <a:pt x="430" y="8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035760" y="1206360"/>
            <a:ext cx="796680" cy="1184400"/>
          </a:xfrm>
          <a:custGeom>
            <a:avLst/>
            <a:gdLst/>
            <a:ahLst/>
            <a:rect l="l" t="t" r="r" b="b"/>
            <a:pathLst>
              <a:path w="502" h="746">
                <a:moveTo>
                  <a:pt x="388" y="746"/>
                </a:moveTo>
                <a:lnTo>
                  <a:pt x="502" y="196"/>
                </a:lnTo>
                <a:lnTo>
                  <a:pt x="21" y="0"/>
                </a:lnTo>
                <a:lnTo>
                  <a:pt x="0" y="268"/>
                </a:lnTo>
                <a:lnTo>
                  <a:pt x="388" y="74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27200" y="3562200"/>
            <a:ext cx="1040040" cy="1692360"/>
          </a:xfrm>
          <a:custGeom>
            <a:avLst/>
            <a:gdLst/>
            <a:ahLst/>
            <a:rect l="l" t="t" r="r" b="b"/>
            <a:pathLst>
              <a:path w="655" h="1066">
                <a:moveTo>
                  <a:pt x="328" y="1066"/>
                </a:move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328" y="106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049560" y="354492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047080" y="383220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048520" y="4121280"/>
            <a:ext cx="573120" cy="1218960"/>
          </a:xfrm>
          <a:custGeom>
            <a:avLst/>
            <a:gdLst/>
            <a:ahLst/>
            <a:rect l="l" t="t" r="r" b="b"/>
            <a:pathLst>
              <a:path w="361" h="768">
                <a:moveTo>
                  <a:pt x="361" y="768"/>
                </a:moveTo>
                <a:lnTo>
                  <a:pt x="5" y="39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486160" y="3867120"/>
            <a:ext cx="573120" cy="1397160"/>
          </a:xfrm>
          <a:custGeom>
            <a:avLst/>
            <a:gdLst/>
            <a:ahLst/>
            <a:rect l="l" t="t" r="r" b="b"/>
            <a:pathLst>
              <a:path w="361" h="880">
                <a:moveTo>
                  <a:pt x="0" y="0"/>
                </a:moveTo>
                <a:lnTo>
                  <a:pt x="361" y="373"/>
                </a:lnTo>
                <a:lnTo>
                  <a:pt x="354" y="8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84720" y="34574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69840" y="533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189080" y="389088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9360" y="4179960"/>
            <a:ext cx="1206360" cy="1085760"/>
          </a:xfrm>
          <a:custGeom>
            <a:avLst/>
            <a:gdLst/>
            <a:ahLst/>
            <a:rect l="l" t="t" r="r" b="b"/>
            <a:pathLst>
              <a:path w="760" h="684">
                <a:moveTo>
                  <a:pt x="323" y="684"/>
                </a:moveTo>
                <a:lnTo>
                  <a:pt x="747" y="570"/>
                </a:lnTo>
                <a:lnTo>
                  <a:pt x="760" y="127"/>
                </a:lnTo>
                <a:lnTo>
                  <a:pt x="405" y="0"/>
                </a:lnTo>
                <a:lnTo>
                  <a:pt x="397" y="261"/>
                </a:lnTo>
                <a:lnTo>
                  <a:pt x="0" y="589"/>
                </a:lnTo>
                <a:lnTo>
                  <a:pt x="323" y="68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198440" y="368928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269720" y="526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90200" y="4944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39640" y="4049640"/>
            <a:ext cx="668520" cy="1084320"/>
          </a:xfrm>
          <a:custGeom>
            <a:avLst/>
            <a:gdLst/>
            <a:ahLst/>
            <a:rect l="l" t="t" r="r" b="b"/>
            <a:pathLst>
              <a:path w="421" h="683">
                <a:moveTo>
                  <a:pt x="0" y="683"/>
                </a:moveTo>
                <a:lnTo>
                  <a:pt x="421" y="349"/>
                </a:lnTo>
                <a:lnTo>
                  <a:pt x="4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90880" y="1168560"/>
            <a:ext cx="984240" cy="1164960"/>
          </a:xfrm>
          <a:custGeom>
            <a:avLst/>
            <a:gdLst/>
            <a:ahLst/>
            <a:rect l="l" t="t" r="r" b="b"/>
            <a:pathLst>
              <a:path w="620" h="734">
                <a:moveTo>
                  <a:pt x="278" y="734"/>
                </a:moveTo>
                <a:lnTo>
                  <a:pt x="0" y="279"/>
                </a:lnTo>
                <a:lnTo>
                  <a:pt x="620" y="0"/>
                </a:lnTo>
                <a:lnTo>
                  <a:pt x="613" y="298"/>
                </a:lnTo>
                <a:lnTo>
                  <a:pt x="278" y="73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73320" y="93816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083040" y="73656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153960" y="2308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20480" y="1585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411280" y="1128600"/>
            <a:ext cx="681120" cy="1386000"/>
          </a:xfrm>
          <a:custGeom>
            <a:avLst/>
            <a:gdLst/>
            <a:ahLst/>
            <a:rect l="l" t="t" r="r" b="b"/>
            <a:pathLst>
              <a:path w="429" h="873">
                <a:moveTo>
                  <a:pt x="418" y="0"/>
                </a:moveTo>
                <a:lnTo>
                  <a:pt x="429" y="329"/>
                </a:lnTo>
                <a:lnTo>
                  <a:pt x="0" y="87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75440" y="247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664000" y="1892160"/>
            <a:ext cx="350640" cy="615960"/>
          </a:xfrm>
          <a:custGeom>
            <a:avLst/>
            <a:gdLst/>
            <a:ahLst/>
            <a:rect l="l" t="t" r="r" b="b"/>
            <a:pathLst>
              <a:path w="221" h="388">
                <a:moveTo>
                  <a:pt x="209" y="388"/>
                </a:moveTo>
                <a:lnTo>
                  <a:pt x="221" y="0"/>
                </a:lnTo>
                <a:lnTo>
                  <a:pt x="0" y="29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37360" y="345744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3840" y="5661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98516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994520" y="727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6580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48484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99560" y="1100160"/>
            <a:ext cx="438120" cy="1069920"/>
          </a:xfrm>
          <a:custGeom>
            <a:avLst/>
            <a:gdLst/>
            <a:ahLst/>
            <a:rect l="l" t="t" r="r" b="b"/>
            <a:pathLst>
              <a:path w="276" h="674">
                <a:moveTo>
                  <a:pt x="0" y="674"/>
                </a:moveTo>
                <a:lnTo>
                  <a:pt x="3" y="341"/>
                </a:ln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183880" y="846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975440" y="1179360"/>
            <a:ext cx="773280" cy="960480"/>
          </a:xfrm>
          <a:custGeom>
            <a:avLst/>
            <a:gdLst/>
            <a:ahLst/>
            <a:rect l="l" t="t" r="r" b="b"/>
            <a:pathLst>
              <a:path w="487" h="605">
                <a:moveTo>
                  <a:pt x="8" y="60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8" y="60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67440" y="4062240"/>
            <a:ext cx="56664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48080" y="5432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576760" y="3959280"/>
            <a:ext cx="1044720" cy="1346040"/>
          </a:xfrm>
          <a:custGeom>
            <a:avLst/>
            <a:gdLst/>
            <a:ahLst/>
            <a:rect l="l" t="t" r="r" b="b"/>
            <a:pathLst>
              <a:path w="658" h="848">
                <a:moveTo>
                  <a:pt x="44" y="848"/>
                </a:moveTo>
                <a:lnTo>
                  <a:pt x="0" y="373"/>
                </a:lnTo>
                <a:lnTo>
                  <a:pt x="418" y="0"/>
                </a:lnTo>
                <a:lnTo>
                  <a:pt x="658" y="101"/>
                </a:lnTo>
                <a:lnTo>
                  <a:pt x="303" y="508"/>
                </a:lnTo>
                <a:lnTo>
                  <a:pt x="323" y="810"/>
                </a:lnTo>
                <a:lnTo>
                  <a:pt x="44" y="8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076800" y="386064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068880" y="4129200"/>
            <a:ext cx="582840" cy="1296720"/>
          </a:xfrm>
          <a:custGeom>
            <a:avLst/>
            <a:gdLst/>
            <a:ahLst/>
            <a:rect l="l" t="t" r="r" b="b"/>
            <a:pathLst>
              <a:path w="367" h="817">
                <a:moveTo>
                  <a:pt x="0" y="817"/>
                </a:moveTo>
                <a:lnTo>
                  <a:pt x="11" y="407"/>
                </a:lnTo>
                <a:lnTo>
                  <a:pt x="36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651280" y="4508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83960" y="47628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035720" y="1613160"/>
            <a:ext cx="344880" cy="262080"/>
            <a:chOff x="1035720" y="1613160"/>
            <a:chExt cx="344880" cy="262080"/>
          </a:xfrm>
        </p:grpSpPr>
        <p:sp>
          <p:nvSpPr>
            <p:cNvPr id="821" name=""/>
            <p:cNvSpPr/>
            <p:nvPr/>
          </p:nvSpPr>
          <p:spPr>
            <a:xfrm rot="1857600">
              <a:off x="1028520" y="1699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9593000">
              <a:off x="1028880" y="17092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875920" y="4794480"/>
            <a:ext cx="344880" cy="262080"/>
            <a:chOff x="5875920" y="4794480"/>
            <a:chExt cx="344880" cy="262080"/>
          </a:xfrm>
        </p:grpSpPr>
        <p:sp>
          <p:nvSpPr>
            <p:cNvPr id="824" name=""/>
            <p:cNvSpPr/>
            <p:nvPr/>
          </p:nvSpPr>
          <p:spPr>
            <a:xfrm rot="1857600">
              <a:off x="5868720" y="4881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9593000">
              <a:off x="5869080" y="4890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869600" y="4483440"/>
            <a:ext cx="344880" cy="262080"/>
            <a:chOff x="7869600" y="4483440"/>
            <a:chExt cx="344880" cy="262080"/>
          </a:xfrm>
        </p:grpSpPr>
        <p:sp>
          <p:nvSpPr>
            <p:cNvPr id="827" name=""/>
            <p:cNvSpPr/>
            <p:nvPr/>
          </p:nvSpPr>
          <p:spPr>
            <a:xfrm rot="1857600">
              <a:off x="7862400" y="4570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9593000">
              <a:off x="7862760" y="45795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5580000" y="1498680"/>
            <a:ext cx="43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436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2320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657520" y="632304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96360" y="633096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824080" y="354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902320" y="1419480"/>
            <a:ext cx="344880" cy="262080"/>
            <a:chOff x="2902320" y="1419480"/>
            <a:chExt cx="344880" cy="262080"/>
          </a:xfrm>
        </p:grpSpPr>
        <p:sp>
          <p:nvSpPr>
            <p:cNvPr id="836" name=""/>
            <p:cNvSpPr/>
            <p:nvPr/>
          </p:nvSpPr>
          <p:spPr>
            <a:xfrm rot="1857600">
              <a:off x="2895120" y="1506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9593000">
              <a:off x="2895480" y="1515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bustness / sp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090440" y="535320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08080" y="538488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402920" y="5560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514440" y="1141560"/>
            <a:ext cx="3566880" cy="1255680"/>
          </a:xfrm>
          <a:custGeom>
            <a:avLst/>
            <a:gdLst/>
            <a:ahLst/>
            <a:rect l="l" t="t" r="r" b="b"/>
            <a:pathLst>
              <a:path w="2247" h="791">
                <a:moveTo>
                  <a:pt x="0" y="158"/>
                </a:moveTo>
                <a:lnTo>
                  <a:pt x="596" y="791"/>
                </a:lnTo>
                <a:lnTo>
                  <a:pt x="2099" y="735"/>
                </a:lnTo>
                <a:lnTo>
                  <a:pt x="2247" y="0"/>
                </a:lnTo>
                <a:lnTo>
                  <a:pt x="0" y="15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339640" y="178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4000" y="1117440"/>
            <a:ext cx="3911400" cy="274680"/>
          </a:xfrm>
          <a:custGeom>
            <a:avLst/>
            <a:gdLst/>
            <a:ahLst/>
            <a:rect l="l" t="t" r="r" b="b"/>
            <a:pathLst>
              <a:path w="2464" h="173">
                <a:moveTo>
                  <a:pt x="2464" y="0"/>
                </a:moveTo>
                <a:lnTo>
                  <a:pt x="0" y="17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36840" y="826920"/>
            <a:ext cx="1352520" cy="1648080"/>
          </a:xfrm>
          <a:custGeom>
            <a:avLst/>
            <a:gdLst/>
            <a:ahLst/>
            <a:rect l="l" t="t" r="r" b="b"/>
            <a:pathLst>
              <a:path w="852" h="1038">
                <a:moveTo>
                  <a:pt x="0" y="588"/>
                </a:moveTo>
                <a:lnTo>
                  <a:pt x="60" y="0"/>
                </a:lnTo>
                <a:lnTo>
                  <a:pt x="852" y="10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65640" y="846000"/>
            <a:ext cx="1171440" cy="1486080"/>
          </a:xfrm>
          <a:custGeom>
            <a:avLst/>
            <a:gdLst/>
            <a:ahLst/>
            <a:rect l="l" t="t" r="r" b="b"/>
            <a:pathLst>
              <a:path w="738" h="936">
                <a:moveTo>
                  <a:pt x="204" y="780"/>
                </a:moveTo>
                <a:lnTo>
                  <a:pt x="0" y="564"/>
                </a:lnTo>
                <a:lnTo>
                  <a:pt x="48" y="0"/>
                </a:lnTo>
                <a:lnTo>
                  <a:pt x="738" y="936"/>
                </a:lnTo>
                <a:lnTo>
                  <a:pt x="204" y="7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62160" y="1916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40240" y="8096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69840" y="8175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16320" y="820800"/>
            <a:ext cx="33480" cy="358560"/>
          </a:xfrm>
          <a:custGeom>
            <a:avLst/>
            <a:gdLst/>
            <a:ahLst/>
            <a:rect l="l" t="t" r="r" b="b"/>
            <a:pathLst>
              <a:path w="21" h="226">
                <a:moveTo>
                  <a:pt x="21" y="0"/>
                </a:moveTo>
                <a:lnTo>
                  <a:pt x="0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38120" y="8748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13160" y="127008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495240" y="126828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788000" y="133200"/>
            <a:ext cx="421164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overlap of a,b is measured in ra, rb, which are fractions of the line length. They have no relation to the distance of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a and/or b are larger than epsilon, it might be that c is still smaller than epsil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f intersection points P1 and P2 are NOT merged, distances of P1 and P2 on the green segment are equal. They are then not sorted correct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t in other cases they are merged, depending on if they are considered as eq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ter a merge we then get four traversal records, two Left, two Right, all labelled ‘i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is unusual case has to be sol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traversal comes from Q, it will take the most Right intersection, which will be Q again so that is OK. Traversal record of P1 is unvisited then, might be indicated as “Skipped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385800" y="93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41320" y="942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493440" y="1071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92840" y="119844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31120" y="114156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348000" y="113184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32040" y="110664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2600" y="4051440"/>
            <a:ext cx="323064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50840" y="4757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9280" y="403380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78040" y="379872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846440" y="381780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310840" y="5526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041560" y="4219560"/>
            <a:ext cx="31572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11040" y="4199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81080" y="3933720"/>
            <a:ext cx="403200" cy="432000"/>
          </a:xfrm>
          <a:prstGeom prst="ellipse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562640" y="1600200"/>
            <a:ext cx="561960" cy="3629160"/>
          </a:xfrm>
          <a:custGeom>
            <a:avLst/>
            <a:gdLst/>
            <a:ahLst/>
            <a:rect l="l" t="t" r="r" b="b"/>
            <a:pathLst>
              <a:path w="354" h="2286">
                <a:moveTo>
                  <a:pt x="0" y="2286"/>
                </a:moveTo>
                <a:lnTo>
                  <a:pt x="318" y="2034"/>
                </a:lnTo>
                <a:lnTo>
                  <a:pt x="354" y="162"/>
                </a:lnTo>
                <a:lnTo>
                  <a:pt x="12" y="0"/>
                </a:lnTo>
                <a:lnTo>
                  <a:pt x="0" y="228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51000" y="459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562640" y="1476360"/>
            <a:ext cx="9360" cy="3790800"/>
          </a:xfrm>
          <a:custGeom>
            <a:avLst/>
            <a:gdLst/>
            <a:ahLst/>
            <a:rect l="l" t="t" r="r" b="b"/>
            <a:pathLst>
              <a:path w="6" h="2388">
                <a:moveTo>
                  <a:pt x="6" y="0"/>
                </a:moveTo>
                <a:lnTo>
                  <a:pt x="0" y="238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19360" y="2295360"/>
            <a:ext cx="3648240" cy="2362320"/>
          </a:xfrm>
          <a:custGeom>
            <a:avLst/>
            <a:gdLst/>
            <a:ahLst/>
            <a:rect l="l" t="t" r="r" b="b"/>
            <a:pathLst>
              <a:path w="2298" h="1488">
                <a:moveTo>
                  <a:pt x="0" y="1488"/>
                </a:moveTo>
                <a:lnTo>
                  <a:pt x="22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76600" y="2428920"/>
            <a:ext cx="3400200" cy="2476440"/>
          </a:xfrm>
          <a:custGeom>
            <a:avLst/>
            <a:gdLst/>
            <a:ahLst/>
            <a:rect l="l" t="t" r="r" b="b"/>
            <a:pathLst>
              <a:path w="2142" h="1560">
                <a:moveTo>
                  <a:pt x="0" y="1398"/>
                </a:moveTo>
                <a:lnTo>
                  <a:pt x="2118" y="0"/>
                </a:lnTo>
                <a:lnTo>
                  <a:pt x="2142" y="372"/>
                </a:lnTo>
                <a:lnTo>
                  <a:pt x="540" y="1560"/>
                </a:lnTo>
                <a:lnTo>
                  <a:pt x="0" y="13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03280" y="4437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060720" y="1773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2, 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0320" y="528804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1,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765440" y="3789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1, Q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11960" y="19749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2, 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7280" y="71280"/>
            <a:ext cx="2109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introduced dec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519440" y="33480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624560" y="3438000"/>
            <a:ext cx="2087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7520" y="4962600"/>
            <a:ext cx="239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 x intersection_poi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x intersection_info (‘i’, ‘i’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: P/Q (including 4 side info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: Q/P (including 4 side info’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t revers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4 segments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04320" y="2592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2680" y="5689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5280" y="44280"/>
            <a:ext cx="1892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“ar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/start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idd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6440760" y="1953000"/>
            <a:ext cx="262080" cy="344880"/>
            <a:chOff x="6440760" y="1953000"/>
            <a:chExt cx="262080" cy="344880"/>
          </a:xfrm>
        </p:grpSpPr>
        <p:sp>
          <p:nvSpPr>
            <p:cNvPr id="923" name=""/>
            <p:cNvSpPr/>
            <p:nvPr/>
          </p:nvSpPr>
          <p:spPr>
            <a:xfrm rot="18057600">
              <a:off x="638496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4193000">
              <a:off x="639432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6436080" y="5169240"/>
            <a:ext cx="262080" cy="344880"/>
            <a:chOff x="6436080" y="5169240"/>
            <a:chExt cx="262080" cy="344880"/>
          </a:xfrm>
        </p:grpSpPr>
        <p:sp>
          <p:nvSpPr>
            <p:cNvPr id="926" name=""/>
            <p:cNvSpPr/>
            <p:nvPr/>
          </p:nvSpPr>
          <p:spPr>
            <a:xfrm rot="18057600">
              <a:off x="638028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14193000">
              <a:off x="638964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6862680" y="1550880"/>
            <a:ext cx="1262160" cy="220680"/>
          </a:xfrm>
          <a:custGeom>
            <a:avLst/>
            <a:gdLst/>
            <a:ahLst/>
            <a:rect l="l" t="t" r="r" b="b"/>
            <a:pathLst>
              <a:path w="795" h="139">
                <a:moveTo>
                  <a:pt x="0" y="139"/>
                </a:moveTo>
                <a:lnTo>
                  <a:pt x="79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043120" y="12668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1880" y="53172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094080" y="690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985080" y="5549760"/>
            <a:ext cx="1359000" cy="304920"/>
          </a:xfrm>
          <a:custGeom>
            <a:avLst/>
            <a:gdLst/>
            <a:ahLst/>
            <a:rect l="l" t="t" r="r" b="b"/>
            <a:pathLst>
              <a:path w="856" h="192">
                <a:moveTo>
                  <a:pt x="0" y="0"/>
                </a:moveTo>
                <a:lnTo>
                  <a:pt x="856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489520" y="5776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608880" y="389088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20720" y="40496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286000" y="3962520"/>
            <a:ext cx="1440" cy="1110960"/>
          </a:xfrm>
          <a:custGeom>
            <a:avLst/>
            <a:gdLst/>
            <a:ahLst/>
            <a:rect l="l" t="t" r="r" b="b"/>
            <a:pathLst>
              <a:path w="1" h="700">
                <a:moveTo>
                  <a:pt x="0" y="70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20520" y="41497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143000" y="5645160"/>
            <a:ext cx="1200240" cy="368280"/>
          </a:xfrm>
          <a:custGeom>
            <a:avLst/>
            <a:gdLst/>
            <a:ahLst/>
            <a:rect l="l" t="t" r="r" b="b"/>
            <a:pathLst>
              <a:path w="756" h="232">
                <a:moveTo>
                  <a:pt x="75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38040" y="6021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506680" y="1842120"/>
            <a:ext cx="262080" cy="344880"/>
            <a:chOff x="2506680" y="1842120"/>
            <a:chExt cx="262080" cy="344880"/>
          </a:xfrm>
        </p:grpSpPr>
        <p:sp>
          <p:nvSpPr>
            <p:cNvPr id="943" name=""/>
            <p:cNvSpPr/>
            <p:nvPr/>
          </p:nvSpPr>
          <p:spPr>
            <a:xfrm rot="18057600">
              <a:off x="245088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4193000">
              <a:off x="246024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320920" y="36180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33120" y="52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977760" y="1360440"/>
            <a:ext cx="1233720" cy="235080"/>
          </a:xfrm>
          <a:custGeom>
            <a:avLst/>
            <a:gdLst/>
            <a:ahLst/>
            <a:rect l="l" t="t" r="r" b="b"/>
            <a:pathLst>
              <a:path w="777" h="148">
                <a:moveTo>
                  <a:pt x="777" y="1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382400" y="1197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457720" y="5066280"/>
            <a:ext cx="262080" cy="344880"/>
            <a:chOff x="2457720" y="5066280"/>
            <a:chExt cx="262080" cy="344880"/>
          </a:xfrm>
        </p:grpSpPr>
        <p:sp>
          <p:nvSpPr>
            <p:cNvPr id="950" name=""/>
            <p:cNvSpPr/>
            <p:nvPr/>
          </p:nvSpPr>
          <p:spPr>
            <a:xfrm rot="18057600">
              <a:off x="240192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14193000">
              <a:off x="241128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20764800">
            <a:off x="341640" y="236700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46160" y="1484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23280" y="5315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01120" y="39600"/>
            <a:ext cx="339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rrecting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or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rot="20764800">
            <a:off x="1208520" y="213372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51640" y="23526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16960" y="177336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6160" y="148428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5920" y="45720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132720" y="523224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84920" y="609300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564000" y="2257560"/>
            <a:ext cx="273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distance between two intersection points (IP) is less then Epsilon, the distance between them is zero. Sorting on distances (necessary in our algorithm) is then not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ven if the distances is slightly larger than epsilon or zero, it can b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 some cases because the IP is based on ra/rb, based on determinances, which are suspective, they cannot be trusted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times they are really rever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e can still sort based on the relative positions (sides) of the se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e note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359080" y="202572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900720" y="249228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0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700720" y="206064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1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9120" y="21556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55736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4782960" y="1558800"/>
            <a:ext cx="323064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219640" y="2160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80000" y="15415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278400" y="44280"/>
            <a:ext cx="478080" cy="390708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46800" y="388800"/>
            <a:ext cx="1003320" cy="318636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516360" y="31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224320" y="673200"/>
            <a:ext cx="348012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295960" y="733320"/>
            <a:ext cx="3241440" cy="289728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791480" y="3111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51680" y="180180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769080" y="169380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241840" y="24494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13520" y="82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661520" y="86508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745760" y="3457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10240" y="160488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88000" y="4869000"/>
            <a:ext cx="4211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struct angle_s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P i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bool operator()(lh, r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int sd = side(ip, rh.tp, rh.t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return s &gt; 0; // sort L </a:t>
            </a:r>
            <a:r>
              <a:rPr b="1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38240" y="4438800"/>
            <a:ext cx="323028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74560" y="504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920" y="442116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633680" y="2924280"/>
            <a:ext cx="477720" cy="390672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701720" y="3268800"/>
            <a:ext cx="1003320" cy="318600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71280" y="599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9600" y="3552840"/>
            <a:ext cx="347976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0880" y="3613320"/>
            <a:ext cx="3241800" cy="289692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46400" y="599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506600" y="468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57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596760" y="532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52320" y="3135240"/>
            <a:ext cx="2233800" cy="3170160"/>
          </a:xfrm>
          <a:custGeom>
            <a:avLst/>
            <a:gdLst/>
            <a:ahLst/>
            <a:rect l="l" t="t" r="r" b="b"/>
            <a:pathLst>
              <a:path w="1407" h="1997">
                <a:moveTo>
                  <a:pt x="0" y="1997"/>
                </a:moveTo>
                <a:lnTo>
                  <a:pt x="1407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84080" y="3371760"/>
            <a:ext cx="2327400" cy="3029040"/>
          </a:xfrm>
          <a:custGeom>
            <a:avLst/>
            <a:gdLst/>
            <a:ahLst/>
            <a:rect l="l" t="t" r="r" b="b"/>
            <a:pathLst>
              <a:path w="1466" h="1908">
                <a:moveTo>
                  <a:pt x="0" y="1751"/>
                </a:moveTo>
                <a:lnTo>
                  <a:pt x="1227" y="0"/>
                </a:lnTo>
                <a:lnTo>
                  <a:pt x="1466" y="397"/>
                </a:lnTo>
                <a:lnTo>
                  <a:pt x="404" y="1908"/>
                </a:lnTo>
                <a:lnTo>
                  <a:pt x="0" y="1751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865160" y="448452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517840" y="3206880"/>
            <a:ext cx="4726080" cy="1057320"/>
          </a:xfrm>
          <a:custGeom>
            <a:avLst/>
            <a:gdLst/>
            <a:ahLst/>
            <a:rect l="l" t="t" r="r" b="b"/>
            <a:pathLst>
              <a:path w="2977" h="666">
                <a:moveTo>
                  <a:pt x="0" y="209"/>
                </a:moveTo>
                <a:lnTo>
                  <a:pt x="381" y="666"/>
                </a:lnTo>
                <a:lnTo>
                  <a:pt x="2760" y="561"/>
                </a:lnTo>
                <a:lnTo>
                  <a:pt x="2977" y="0"/>
                </a:lnTo>
                <a:lnTo>
                  <a:pt x="0" y="20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742920" y="387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244600" y="3193920"/>
            <a:ext cx="5343480" cy="368280"/>
          </a:xfrm>
          <a:custGeom>
            <a:avLst/>
            <a:gdLst/>
            <a:ahLst/>
            <a:rect l="l" t="t" r="r" b="b"/>
            <a:pathLst>
              <a:path w="3366" h="232">
                <a:moveTo>
                  <a:pt x="3366" y="0"/>
                </a:moveTo>
                <a:lnTo>
                  <a:pt x="0" y="2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91160" y="582480"/>
            <a:ext cx="712800" cy="5972400"/>
          </a:xfrm>
          <a:custGeom>
            <a:avLst/>
            <a:gdLst/>
            <a:ahLst/>
            <a:rect l="l" t="t" r="r" b="b"/>
            <a:pathLst>
              <a:path w="449" h="3762">
                <a:moveTo>
                  <a:pt x="0" y="3762"/>
                </a:moveTo>
                <a:lnTo>
                  <a:pt x="44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749840" y="1116000"/>
            <a:ext cx="1224000" cy="5154480"/>
          </a:xfrm>
          <a:custGeom>
            <a:avLst/>
            <a:gdLst/>
            <a:ahLst/>
            <a:rect l="l" t="t" r="r" b="b"/>
            <a:pathLst>
              <a:path w="771" h="3247">
                <a:moveTo>
                  <a:pt x="0" y="3247"/>
                </a:moveTo>
                <a:lnTo>
                  <a:pt x="382" y="0"/>
                </a:lnTo>
                <a:lnTo>
                  <a:pt x="771" y="367"/>
                </a:lnTo>
                <a:lnTo>
                  <a:pt x="621" y="2985"/>
                </a:lnTo>
                <a:lnTo>
                  <a:pt x="0" y="32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40000" y="482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49400" y="1722600"/>
            <a:ext cx="5000760" cy="3681360"/>
          </a:xfrm>
          <a:custGeom>
            <a:avLst/>
            <a:gdLst/>
            <a:ahLst/>
            <a:rect l="l" t="t" r="r" b="b"/>
            <a:pathLst>
              <a:path w="3150" h="2319">
                <a:moveTo>
                  <a:pt x="0" y="0"/>
                </a:moveTo>
                <a:lnTo>
                  <a:pt x="3150" y="2319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849400" y="1924200"/>
            <a:ext cx="4751640" cy="3416040"/>
          </a:xfrm>
          <a:custGeom>
            <a:avLst/>
            <a:gdLst/>
            <a:ahLst/>
            <a:rect l="l" t="t" r="r" b="b"/>
            <a:pathLst>
              <a:path w="2993" h="2152">
                <a:moveTo>
                  <a:pt x="172" y="0"/>
                </a:moveTo>
                <a:lnTo>
                  <a:pt x="2993" y="2072"/>
                </a:lnTo>
                <a:lnTo>
                  <a:pt x="1995" y="2152"/>
                </a:lnTo>
                <a:lnTo>
                  <a:pt x="0" y="486"/>
                </a:lnTo>
                <a:lnTo>
                  <a:pt x="172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15120" y="482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75320" y="351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292720" y="340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65480" y="415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49800" y="1460520"/>
            <a:ext cx="3051000" cy="4298760"/>
          </a:xfrm>
          <a:custGeom>
            <a:avLst/>
            <a:gdLst/>
            <a:ahLst/>
            <a:rect l="l" t="t" r="r" b="b"/>
            <a:pathLst>
              <a:path w="1922" h="2708">
                <a:moveTo>
                  <a:pt x="0" y="2708"/>
                </a:moveTo>
                <a:lnTo>
                  <a:pt x="1922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538440" y="1722600"/>
            <a:ext cx="3076560" cy="3798720"/>
          </a:xfrm>
          <a:custGeom>
            <a:avLst/>
            <a:gdLst/>
            <a:ahLst/>
            <a:rect l="l" t="t" r="r" b="b"/>
            <a:pathLst>
              <a:path w="1938" h="2393">
                <a:moveTo>
                  <a:pt x="0" y="2393"/>
                </a:moveTo>
                <a:lnTo>
                  <a:pt x="1676" y="0"/>
                </a:lnTo>
                <a:lnTo>
                  <a:pt x="1938" y="456"/>
                </a:lnTo>
                <a:lnTo>
                  <a:pt x="584" y="2378"/>
                </a:lnTo>
                <a:lnTo>
                  <a:pt x="0" y="2393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09640" y="1995480"/>
            <a:ext cx="6578640" cy="2671920"/>
          </a:xfrm>
          <a:custGeom>
            <a:avLst/>
            <a:gdLst/>
            <a:ahLst/>
            <a:rect l="l" t="t" r="r" b="b"/>
            <a:pathLst>
              <a:path w="4144" h="1683">
                <a:moveTo>
                  <a:pt x="4144" y="168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327400" y="1805040"/>
            <a:ext cx="5783040" cy="2766960"/>
          </a:xfrm>
          <a:custGeom>
            <a:avLst/>
            <a:gdLst/>
            <a:ahLst/>
            <a:rect l="l" t="t" r="r" b="b"/>
            <a:pathLst>
              <a:path w="3643" h="1743">
                <a:moveTo>
                  <a:pt x="3643" y="1743"/>
                </a:moveTo>
                <a:lnTo>
                  <a:pt x="0" y="269"/>
                </a:lnTo>
                <a:lnTo>
                  <a:pt x="658" y="0"/>
                </a:lnTo>
                <a:lnTo>
                  <a:pt x="3643" y="1204"/>
                </a:lnTo>
                <a:lnTo>
                  <a:pt x="3643" y="1743"/>
                </a:lnTo>
                <a:close/>
              </a:path>
            </a:pathLst>
          </a:cu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22720" y="3314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90600" y="450720"/>
            <a:ext cx="3230640" cy="126396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8480" y="1157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87280" y="4334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86040" y="19836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54080" y="21744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418840" y="1925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71880" y="64152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12560" y="639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477800" y="289080"/>
            <a:ext cx="67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2 =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060920" y="2917800"/>
            <a:ext cx="68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1 =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714680" y="577800"/>
            <a:ext cx="171360" cy="2239920"/>
          </a:xfrm>
          <a:custGeom>
            <a:avLst/>
            <a:gdLst/>
            <a:ahLst/>
            <a:rect l="l" t="t" r="r" b="b"/>
            <a:pathLst>
              <a:path w="108" h="1411">
                <a:moveTo>
                  <a:pt x="108" y="141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48240" y="44280"/>
            <a:ext cx="3067200" cy="1289160"/>
          </a:xfrm>
          <a:custGeom>
            <a:avLst/>
            <a:gdLst/>
            <a:ahLst/>
            <a:rect l="l" t="t" r="r" b="b"/>
            <a:pathLst>
              <a:path w="1932" h="812">
                <a:moveTo>
                  <a:pt x="0" y="544"/>
                </a:moveTo>
                <a:lnTo>
                  <a:pt x="436" y="0"/>
                </a:lnTo>
                <a:lnTo>
                  <a:pt x="1772" y="184"/>
                </a:lnTo>
                <a:lnTo>
                  <a:pt x="1932" y="812"/>
                </a:lnTo>
                <a:lnTo>
                  <a:pt x="0" y="5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819400" y="168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70400" y="888840"/>
            <a:ext cx="3251160" cy="470160"/>
          </a:xfrm>
          <a:custGeom>
            <a:avLst/>
            <a:gdLst/>
            <a:ahLst/>
            <a:rect l="l" t="t" r="r" b="b"/>
            <a:pathLst>
              <a:path w="2048" h="296">
                <a:moveTo>
                  <a:pt x="0" y="0"/>
                </a:moveTo>
                <a:lnTo>
                  <a:pt x="2048" y="2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93000" y="723960"/>
            <a:ext cx="1717560" cy="2259000"/>
          </a:xfrm>
          <a:custGeom>
            <a:avLst/>
            <a:gdLst/>
            <a:ahLst/>
            <a:rect l="l" t="t" r="r" b="b"/>
            <a:pathLst>
              <a:path w="1082" h="1423">
                <a:moveTo>
                  <a:pt x="0" y="1250"/>
                </a:moveTo>
                <a:lnTo>
                  <a:pt x="516" y="0"/>
                </a:lnTo>
                <a:lnTo>
                  <a:pt x="1082" y="142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221520" y="743040"/>
            <a:ext cx="1452600" cy="2068560"/>
          </a:xfrm>
          <a:custGeom>
            <a:avLst/>
            <a:gdLst/>
            <a:ahLst/>
            <a:rect l="l" t="t" r="r" b="b"/>
            <a:pathLst>
              <a:path w="915" h="1303">
                <a:moveTo>
                  <a:pt x="371" y="1303"/>
                </a:moveTo>
                <a:lnTo>
                  <a:pt x="0" y="1082"/>
                </a:lnTo>
                <a:lnTo>
                  <a:pt x="441" y="0"/>
                </a:lnTo>
                <a:lnTo>
                  <a:pt x="915" y="1228"/>
                </a:lnTo>
                <a:lnTo>
                  <a:pt x="371" y="130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841800" y="2060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832440" y="1181160"/>
            <a:ext cx="324000" cy="69840"/>
          </a:xfrm>
          <a:custGeom>
            <a:avLst/>
            <a:gdLst/>
            <a:ahLst/>
            <a:rect l="l" t="t" r="r" b="b"/>
            <a:pathLst>
              <a:path w="204" h="44">
                <a:moveTo>
                  <a:pt x="204" y="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873480" y="11653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093000" y="1068480"/>
            <a:ext cx="179280" cy="1623960"/>
          </a:xfrm>
          <a:custGeom>
            <a:avLst/>
            <a:gdLst/>
            <a:ahLst/>
            <a:rect l="l" t="t" r="r" b="b"/>
            <a:pathLst>
              <a:path w="113" h="1023">
                <a:moveTo>
                  <a:pt x="0" y="1023"/>
                </a:moveTo>
                <a:lnTo>
                  <a:pt x="113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06600" y="5310360"/>
            <a:ext cx="323028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374480" y="60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3280" y="52927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51000" y="4932360"/>
            <a:ext cx="692280" cy="826920"/>
          </a:xfrm>
          <a:custGeom>
            <a:avLst/>
            <a:gdLst/>
            <a:ahLst/>
            <a:rect l="l" t="t" r="r" b="b"/>
            <a:pathLst>
              <a:path w="436" h="521">
                <a:moveTo>
                  <a:pt x="436" y="0"/>
                </a:moveTo>
                <a:lnTo>
                  <a:pt x="255" y="521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262240" y="4983120"/>
            <a:ext cx="528480" cy="795240"/>
          </a:xfrm>
          <a:custGeom>
            <a:avLst/>
            <a:gdLst/>
            <a:ahLst/>
            <a:rect l="l" t="t" r="r" b="b"/>
            <a:pathLst>
              <a:path w="333" h="501">
                <a:moveTo>
                  <a:pt x="107" y="0"/>
                </a:moveTo>
                <a:lnTo>
                  <a:pt x="0" y="103"/>
                </a:lnTo>
                <a:lnTo>
                  <a:pt x="191" y="501"/>
                </a:lnTo>
                <a:lnTo>
                  <a:pt x="333" y="27"/>
                </a:lnTo>
                <a:lnTo>
                  <a:pt x="10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410920" y="4809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87520" y="5500800"/>
            <a:ext cx="31608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428560" y="54990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43680" y="4368960"/>
            <a:ext cx="3230280" cy="1068120"/>
          </a:xfrm>
          <a:custGeom>
            <a:avLst/>
            <a:gdLst/>
            <a:ahLst/>
            <a:rect l="l" t="t" r="r" b="b"/>
            <a:pathLst>
              <a:path w="2035" h="673">
                <a:moveTo>
                  <a:pt x="0" y="673"/>
                </a:moveTo>
                <a:lnTo>
                  <a:pt x="48" y="168"/>
                </a:lnTo>
                <a:lnTo>
                  <a:pt x="1888" y="0"/>
                </a:lnTo>
                <a:lnTo>
                  <a:pt x="2035" y="539"/>
                </a:lnTo>
                <a:lnTo>
                  <a:pt x="0" y="6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040360" y="52070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377040" y="4049640"/>
            <a:ext cx="1176120" cy="1623960"/>
          </a:xfrm>
          <a:custGeom>
            <a:avLst/>
            <a:gdLst/>
            <a:ahLst/>
            <a:rect l="l" t="t" r="r" b="b"/>
            <a:pathLst>
              <a:path w="741" h="1023">
                <a:moveTo>
                  <a:pt x="0" y="194"/>
                </a:moveTo>
                <a:lnTo>
                  <a:pt x="451" y="1023"/>
                </a:lnTo>
                <a:lnTo>
                  <a:pt x="74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873760" y="4381560"/>
            <a:ext cx="2260440" cy="1981080"/>
          </a:xfrm>
          <a:custGeom>
            <a:avLst/>
            <a:gdLst/>
            <a:ahLst/>
            <a:rect l="l" t="t" r="r" b="b"/>
            <a:pathLst>
              <a:path w="1424" h="1248">
                <a:moveTo>
                  <a:pt x="1424" y="332"/>
                </a:moveTo>
                <a:lnTo>
                  <a:pt x="1212" y="1208"/>
                </a:lnTo>
                <a:lnTo>
                  <a:pt x="404" y="1248"/>
                </a:lnTo>
                <a:lnTo>
                  <a:pt x="0" y="296"/>
                </a:lnTo>
                <a:lnTo>
                  <a:pt x="344" y="64"/>
                </a:lnTo>
                <a:lnTo>
                  <a:pt x="766" y="838"/>
                </a:lnTo>
                <a:lnTo>
                  <a:pt x="1012" y="0"/>
                </a:lnTo>
                <a:lnTo>
                  <a:pt x="1424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62520" y="5950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92920" y="5261040"/>
            <a:ext cx="31608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965640" y="50846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356080" y="47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246000" y="4152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595280" y="4076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649720" y="5087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050840" y="1104840"/>
            <a:ext cx="3025800" cy="4297320"/>
          </a:xfrm>
          <a:custGeom>
            <a:avLst/>
            <a:gdLst/>
            <a:ahLst/>
            <a:rect l="l" t="t" r="r" b="b"/>
            <a:pathLst>
              <a:path w="1906" h="2707">
                <a:moveTo>
                  <a:pt x="1216" y="2707"/>
                </a:moveTo>
                <a:lnTo>
                  <a:pt x="1906" y="2647"/>
                </a:lnTo>
                <a:lnTo>
                  <a:pt x="1806" y="474"/>
                </a:lnTo>
                <a:lnTo>
                  <a:pt x="528" y="0"/>
                </a:lnTo>
                <a:lnTo>
                  <a:pt x="0" y="276"/>
                </a:lnTo>
                <a:lnTo>
                  <a:pt x="1176" y="816"/>
                </a:lnTo>
                <a:lnTo>
                  <a:pt x="1216" y="270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681000" y="2625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70120" y="1467000"/>
            <a:ext cx="2100240" cy="3978000"/>
          </a:xfrm>
          <a:custGeom>
            <a:avLst/>
            <a:gdLst/>
            <a:ahLst/>
            <a:rect l="l" t="t" r="r" b="b"/>
            <a:pathLst>
              <a:path w="1323" h="2506">
                <a:moveTo>
                  <a:pt x="0" y="0"/>
                </a:moveTo>
                <a:lnTo>
                  <a:pt x="1296" y="600"/>
                </a:lnTo>
                <a:lnTo>
                  <a:pt x="1323" y="25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08000" y="311616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96920" y="2646360"/>
            <a:ext cx="363204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98120" y="2641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41120" y="39600"/>
            <a:ext cx="42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intersection points – new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9720" y="406728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88360" y="362412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75120" y="322272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898720" y="36162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211640" y="620640"/>
            <a:ext cx="493236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stead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and 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n two IP’s, merged lat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ill be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in: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especially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gnored: all on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 results, but now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 direc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sp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move collinearity (probab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015720" y="515448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55240" y="228600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045440" y="1628640"/>
            <a:ext cx="1774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76600" y="3400560"/>
            <a:ext cx="561960" cy="55692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03520" y="2157480"/>
            <a:ext cx="561960" cy="55728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81080" y="3611520"/>
            <a:ext cx="2733480" cy="752400"/>
          </a:xfrm>
          <a:custGeom>
            <a:avLst/>
            <a:gdLst/>
            <a:ahLst/>
            <a:rect l="l" t="t" r="r" b="b"/>
            <a:pathLst>
              <a:path w="1722" h="474">
                <a:moveTo>
                  <a:pt x="0" y="474"/>
                </a:moveTo>
                <a:lnTo>
                  <a:pt x="172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857680" y="2438280"/>
            <a:ext cx="37800" cy="2924280"/>
          </a:xfrm>
          <a:custGeom>
            <a:avLst/>
            <a:gdLst/>
            <a:ahLst/>
            <a:rect l="l" t="t" r="r" b="b"/>
            <a:pathLst>
              <a:path w="24" h="1842">
                <a:moveTo>
                  <a:pt x="24" y="184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9720" y="311040"/>
            <a:ext cx="2076480" cy="40032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81000" y="712800"/>
            <a:ext cx="127152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8640" y="74448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00" y="235080"/>
            <a:ext cx="1857600" cy="44748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760" y="1298520"/>
            <a:ext cx="34765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case of clockwise polyg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olygon is always at the right hand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have all our turns unaware of the context, so we have (and need) no information about if, before, it was inside or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“second” segment might be the very first, the “first” might be the very last of the poly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might be a degenerate segment of two identical point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fore our polygons (P and Q) are given indexes i,k (for P) and u,w (for 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7200" y="208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3480" y="920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5444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44960" y="44280"/>
            <a:ext cx="758880" cy="1105200"/>
          </a:xfrm>
          <a:custGeom>
            <a:avLst/>
            <a:gdLst/>
            <a:ahLst/>
            <a:rect l="l" t="t" r="r" b="b"/>
            <a:pathLst>
              <a:path w="478" h="696">
                <a:moveTo>
                  <a:pt x="267" y="696"/>
                </a:moveTo>
                <a:lnTo>
                  <a:pt x="0" y="260"/>
                </a:lnTo>
                <a:lnTo>
                  <a:pt x="47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8440" y="168120"/>
            <a:ext cx="869760" cy="903600"/>
          </a:xfrm>
          <a:custGeom>
            <a:avLst/>
            <a:gdLst/>
            <a:ahLst/>
            <a:rect l="l" t="t" r="r" b="b"/>
            <a:pathLst>
              <a:path w="548" h="569">
                <a:moveTo>
                  <a:pt x="337" y="0"/>
                </a:moveTo>
                <a:lnTo>
                  <a:pt x="548" y="302"/>
                </a:lnTo>
                <a:lnTo>
                  <a:pt x="232" y="569"/>
                </a:lnTo>
                <a:lnTo>
                  <a:pt x="0" y="182"/>
                </a:lnTo>
                <a:lnTo>
                  <a:pt x="33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57680" y="1843200"/>
            <a:ext cx="1263600" cy="938160"/>
          </a:xfrm>
          <a:custGeom>
            <a:avLst/>
            <a:gdLst/>
            <a:ahLst/>
            <a:rect l="l" t="t" r="r" b="b"/>
            <a:pathLst>
              <a:path w="796" h="591">
                <a:moveTo>
                  <a:pt x="796" y="591"/>
                </a:moveTo>
                <a:lnTo>
                  <a:pt x="529" y="15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363680"/>
            <a:ext cx="1541520" cy="1339920"/>
          </a:xfrm>
          <a:custGeom>
            <a:avLst/>
            <a:gdLst/>
            <a:ahLst/>
            <a:rect l="l" t="t" r="r" b="b"/>
            <a:pathLst>
              <a:path w="971" h="844">
                <a:moveTo>
                  <a:pt x="112" y="0"/>
                </a:moveTo>
                <a:lnTo>
                  <a:pt x="632" y="126"/>
                </a:lnTo>
                <a:lnTo>
                  <a:pt x="971" y="577"/>
                </a:lnTo>
                <a:lnTo>
                  <a:pt x="655" y="844"/>
                </a:lnTo>
                <a:lnTo>
                  <a:pt x="423" y="457"/>
                </a:lnTo>
                <a:lnTo>
                  <a:pt x="0" y="330"/>
                </a:lnTo>
                <a:lnTo>
                  <a:pt x="112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27800" y="547560"/>
            <a:ext cx="14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ight turn (conve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27440" y="1571760"/>
            <a:ext cx="14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ft turn (conca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3520" y="29732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9559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337500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3040" y="27464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78040" y="2752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18280" y="29066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33840" y="3657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60840" y="35542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253224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9960" y="379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560" y="523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2880" y="739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34640" y="7840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44832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8928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75120" y="333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5320" y="557280"/>
            <a:ext cx="1193760" cy="1136520"/>
          </a:xfrm>
          <a:custGeom>
            <a:avLst/>
            <a:gdLst/>
            <a:ahLst/>
            <a:rect l="l" t="t" r="r" b="b"/>
            <a:pathLst>
              <a:path w="752" h="716">
                <a:moveTo>
                  <a:pt x="284" y="716"/>
                </a:moveTo>
                <a:lnTo>
                  <a:pt x="0" y="88"/>
                </a:lnTo>
                <a:lnTo>
                  <a:pt x="752" y="0"/>
                </a:lnTo>
                <a:lnTo>
                  <a:pt x="284" y="7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0760" y="23288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1560" y="1693800"/>
            <a:ext cx="1033560" cy="844560"/>
          </a:xfrm>
          <a:custGeom>
            <a:avLst/>
            <a:gdLst/>
            <a:ahLst/>
            <a:rect l="l" t="t" r="r" b="b"/>
            <a:pathLst>
              <a:path w="651" h="532">
                <a:moveTo>
                  <a:pt x="651" y="0"/>
                </a:moveTo>
                <a:lnTo>
                  <a:pt x="32" y="532"/>
                </a:lnTo>
                <a:lnTo>
                  <a:pt x="0" y="172"/>
                </a:lnTo>
                <a:lnTo>
                  <a:pt x="6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3040" y="17017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9840" y="693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4640" y="79848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62560" y="1792440"/>
            <a:ext cx="561960" cy="152280"/>
          </a:xfrm>
          <a:custGeom>
            <a:avLst/>
            <a:gdLst/>
            <a:ahLst/>
            <a:rect l="l" t="t" r="r" b="b"/>
            <a:pathLst>
              <a:path w="354" h="96">
                <a:moveTo>
                  <a:pt x="0" y="96"/>
                </a:moveTo>
                <a:lnTo>
                  <a:pt x="35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50960" y="1033560"/>
            <a:ext cx="69840" cy="53964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7640" y="576360"/>
            <a:ext cx="679320" cy="88920"/>
          </a:xfrm>
          <a:custGeom>
            <a:avLst/>
            <a:gdLst/>
            <a:ahLst/>
            <a:rect l="l" t="t" r="r" b="b"/>
            <a:pathLst>
              <a:path w="428" h="56">
                <a:moveTo>
                  <a:pt x="0" y="56"/>
                </a:moveTo>
                <a:lnTo>
                  <a:pt x="428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7800" y="179532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3960" y="1782720"/>
            <a:ext cx="603360" cy="65160"/>
          </a:xfrm>
          <a:custGeom>
            <a:avLst/>
            <a:gdLst/>
            <a:ahLst/>
            <a:rect l="l" t="t" r="r" b="b"/>
            <a:pathLst>
              <a:path w="380" h="41">
                <a:moveTo>
                  <a:pt x="0" y="41"/>
                </a:moveTo>
                <a:lnTo>
                  <a:pt x="38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796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763640"/>
            <a:ext cx="190800" cy="57960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9920" y="1996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84520" y="1781280"/>
            <a:ext cx="539640" cy="24912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38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0040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624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3120" y="1779480"/>
            <a:ext cx="17280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9160" y="208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3360" y="1755720"/>
            <a:ext cx="342720" cy="389160"/>
          </a:xfrm>
          <a:custGeom>
            <a:avLst/>
            <a:gdLst/>
            <a:ahLst/>
            <a:rect l="l" t="t" r="r" b="b"/>
            <a:pathLst>
              <a:path w="216" h="245">
                <a:moveTo>
                  <a:pt x="216" y="0"/>
                </a:moveTo>
                <a:lnTo>
                  <a:pt x="0" y="24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3728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4348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9080" y="1779480"/>
            <a:ext cx="17316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75480" y="1031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11920" y="1208160"/>
            <a:ext cx="349560" cy="419040"/>
          </a:xfrm>
          <a:custGeom>
            <a:avLst/>
            <a:gdLst/>
            <a:ahLst/>
            <a:rect l="l" t="t" r="r" b="b"/>
            <a:pathLst>
              <a:path w="220" h="264">
                <a:moveTo>
                  <a:pt x="22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32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2944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1012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7960" y="2646360"/>
            <a:ext cx="287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right turn and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 intersection will not be gener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or a union the intersection point ha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 taken tw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200480"/>
            <a:ext cx="1468440" cy="641520"/>
          </a:xfrm>
          <a:custGeom>
            <a:avLst/>
            <a:gdLst/>
            <a:ahLst/>
            <a:rect l="l" t="t" r="r" b="b"/>
            <a:pathLst>
              <a:path w="925" h="404">
                <a:moveTo>
                  <a:pt x="925" y="0"/>
                </a:moveTo>
                <a:lnTo>
                  <a:pt x="652" y="198"/>
                </a:lnTo>
                <a:lnTo>
                  <a:pt x="840" y="404"/>
                </a:lnTo>
                <a:lnTo>
                  <a:pt x="0" y="206"/>
                </a:lnTo>
                <a:lnTo>
                  <a:pt x="925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6320" y="456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60120" y="3902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0480" y="3948120"/>
            <a:ext cx="1317600" cy="1352520"/>
          </a:xfrm>
          <a:custGeom>
            <a:avLst/>
            <a:gdLst/>
            <a:ahLst/>
            <a:rect l="l" t="t" r="r" b="b"/>
            <a:pathLst>
              <a:path w="830" h="852">
                <a:moveTo>
                  <a:pt x="556" y="852"/>
                </a:moveTo>
                <a:lnTo>
                  <a:pt x="410" y="354"/>
                </a:lnTo>
                <a:lnTo>
                  <a:pt x="0" y="200"/>
                </a:lnTo>
                <a:lnTo>
                  <a:pt x="830" y="0"/>
                </a:lnTo>
                <a:lnTo>
                  <a:pt x="556" y="8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4027320"/>
            <a:ext cx="709560" cy="176400"/>
          </a:xfrm>
          <a:custGeom>
            <a:avLst/>
            <a:gdLst/>
            <a:ahLst/>
            <a:rect l="l" t="t" r="r" b="b"/>
            <a:pathLst>
              <a:path w="447" h="111">
                <a:moveTo>
                  <a:pt x="0" y="111"/>
                </a:moveTo>
                <a:lnTo>
                  <a:pt x="44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9560" y="4400640"/>
            <a:ext cx="439920" cy="98280"/>
          </a:xfrm>
          <a:custGeom>
            <a:avLst/>
            <a:gdLst/>
            <a:ahLst/>
            <a:rect l="l" t="t" r="r" b="b"/>
            <a:pathLst>
              <a:path w="277" h="62">
                <a:moveTo>
                  <a:pt x="0" y="62"/>
                </a:moveTo>
                <a:lnTo>
                  <a:pt x="277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7080" y="4457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3440" y="5157720"/>
            <a:ext cx="538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righ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left turn, at the generation of a union this point will not be vis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intersection of these polygons will be two separate, touching polyg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000" y="414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0680" y="4367160"/>
            <a:ext cx="233280" cy="85680"/>
          </a:xfrm>
          <a:custGeom>
            <a:avLst/>
            <a:gdLst/>
            <a:ahLst/>
            <a:rect l="l" t="t" r="r" b="b"/>
            <a:pathLst>
              <a:path w="147" h="54">
                <a:moveTo>
                  <a:pt x="147" y="5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5360" y="4505400"/>
            <a:ext cx="243000" cy="226800"/>
          </a:xfrm>
          <a:custGeom>
            <a:avLst/>
            <a:gdLst/>
            <a:ahLst/>
            <a:rect l="l" t="t" r="r" b="b"/>
            <a:pathLst>
              <a:path w="153" h="143">
                <a:moveTo>
                  <a:pt x="0" y="0"/>
                </a:moveTo>
                <a:lnTo>
                  <a:pt x="153" y="14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84240" y="4492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7440" y="5021280"/>
            <a:ext cx="250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are much more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y are “symmetrical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the sense of Left/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 needs adaption, most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87680" y="811080"/>
            <a:ext cx="90144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3280" y="1365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9560" y="849240"/>
            <a:ext cx="1085760" cy="576360"/>
          </a:xfrm>
          <a:custGeom>
            <a:avLst/>
            <a:gdLst/>
            <a:ahLst/>
            <a:rect l="l" t="t" r="r" b="b"/>
            <a:pathLst>
              <a:path w="684" h="363">
                <a:moveTo>
                  <a:pt x="684" y="363"/>
                </a:moveTo>
                <a:lnTo>
                  <a:pt x="211" y="27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40320" y="13399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2280" y="692280"/>
            <a:ext cx="535320" cy="698400"/>
          </a:xfrm>
          <a:custGeom>
            <a:avLst/>
            <a:gdLst/>
            <a:ahLst/>
            <a:rect l="l" t="t" r="r" b="b"/>
            <a:pathLst>
              <a:path w="337" h="440">
                <a:moveTo>
                  <a:pt x="0" y="0"/>
                </a:moveTo>
                <a:lnTo>
                  <a:pt x="337" y="359"/>
                </a:lnTo>
                <a:lnTo>
                  <a:pt x="16" y="4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23200" y="132084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0560" y="3500280"/>
            <a:ext cx="755640" cy="816120"/>
          </a:xfrm>
          <a:custGeom>
            <a:avLst/>
            <a:gdLst/>
            <a:ahLst/>
            <a:rect l="l" t="t" r="r" b="b"/>
            <a:pathLst>
              <a:path w="476" h="514">
                <a:moveTo>
                  <a:pt x="476" y="514"/>
                </a:moveTo>
                <a:lnTo>
                  <a:pt x="3" y="423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1200" y="4230720"/>
            <a:ext cx="54900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7120" y="3519360"/>
            <a:ext cx="698400" cy="639720"/>
          </a:xfrm>
          <a:custGeom>
            <a:avLst/>
            <a:gdLst/>
            <a:ahLst/>
            <a:rect l="l" t="t" r="r" b="b"/>
            <a:pathLst>
              <a:path w="440" h="403">
                <a:moveTo>
                  <a:pt x="440" y="0"/>
                </a:moveTo>
                <a:lnTo>
                  <a:pt x="438" y="403"/>
                </a:ln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87880" y="4218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6664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2252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0216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0664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8772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280" y="836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164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8620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36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7960" y="278136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040" y="2781360"/>
            <a:ext cx="184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/from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31840" y="278136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65200" y="573408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14720" y="573408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3800" y="41418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00840" y="412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52920" y="12510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35800" y="12319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85880" y="12762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2280" y="64944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46980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6480" y="1266840"/>
            <a:ext cx="392040" cy="1273320"/>
          </a:xfrm>
          <a:custGeom>
            <a:avLst/>
            <a:gdLst/>
            <a:ahLst/>
            <a:rect l="l" t="t" r="r" b="b"/>
            <a:pathLst>
              <a:path w="247" h="802">
                <a:moveTo>
                  <a:pt x="7" y="802"/>
                </a:moveTo>
                <a:lnTo>
                  <a:pt x="0" y="0"/>
                </a:lnTo>
                <a:lnTo>
                  <a:pt x="247" y="346"/>
                </a:lnTo>
                <a:lnTo>
                  <a:pt x="7" y="80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27920" y="1225440"/>
            <a:ext cx="453960" cy="70488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31160" y="936720"/>
            <a:ext cx="644400" cy="272880"/>
          </a:xfrm>
          <a:custGeom>
            <a:avLst/>
            <a:gdLst/>
            <a:ahLst/>
            <a:rect l="l" t="t" r="r" b="b"/>
            <a:pathLst>
              <a:path w="406" h="172">
                <a:moveTo>
                  <a:pt x="0" y="172"/>
                </a:moveTo>
                <a:lnTo>
                  <a:pt x="406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840" y="63504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7520" y="120348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6120" y="58428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24160" y="118584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1760" y="88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86364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920" y="82548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6024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6708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2740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5760" y="923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62600" y="9000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2920" y="8618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1160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1844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876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0960" y="4502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74652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4" y="332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000" y="438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6068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9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19280" y="439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4684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13440" y="3830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9280" y="3716280"/>
            <a:ext cx="1028520" cy="102888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329" y="340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5840" y="488880"/>
            <a:ext cx="1800" cy="719280"/>
          </a:xfrm>
          <a:custGeom>
            <a:avLst/>
            <a:gdLst/>
            <a:ahLst/>
            <a:rect l="l" t="t" r="r" b="b"/>
            <a:pathLst>
              <a:path w="1" h="453">
                <a:moveTo>
                  <a:pt x="0" y="453"/>
                </a:moveTo>
                <a:lnTo>
                  <a:pt x="1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72280" y="369108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4280040"/>
            <a:ext cx="330120" cy="1396800"/>
          </a:xfrm>
          <a:custGeom>
            <a:avLst/>
            <a:gdLst/>
            <a:ahLst/>
            <a:rect l="l" t="t" r="r" b="b"/>
            <a:pathLst>
              <a:path w="208" h="880">
                <a:moveTo>
                  <a:pt x="4" y="880"/>
                </a:moveTo>
                <a:lnTo>
                  <a:pt x="0" y="0"/>
                </a:lnTo>
                <a:lnTo>
                  <a:pt x="208" y="320"/>
                </a:lnTo>
                <a:lnTo>
                  <a:pt x="4" y="88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31160" y="425124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362592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35840" y="3562200"/>
            <a:ext cx="268200" cy="687600"/>
          </a:xfrm>
          <a:custGeom>
            <a:avLst/>
            <a:gdLst/>
            <a:ahLst/>
            <a:rect l="l" t="t" r="r" b="b"/>
            <a:pathLst>
              <a:path w="169" h="433">
                <a:moveTo>
                  <a:pt x="0" y="433"/>
                </a:moveTo>
                <a:lnTo>
                  <a:pt x="16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43760" y="4237200"/>
            <a:ext cx="453960" cy="70452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840" y="391644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2560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1176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4200" y="388620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58240" y="126828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38760" y="1352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2760" y="1424160"/>
            <a:ext cx="552240" cy="34920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05560" y="16462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" y="193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2720" y="1628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63680"/>
            <a:ext cx="247680" cy="520560"/>
          </a:xfrm>
          <a:custGeom>
            <a:avLst/>
            <a:gdLst/>
            <a:ahLst/>
            <a:rect l="l" t="t" r="r" b="b"/>
            <a:pathLst>
              <a:path w="156" h="328">
                <a:moveTo>
                  <a:pt x="156" y="3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1480" y="447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69000" y="1442880"/>
            <a:ext cx="552240" cy="34956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41800" y="1665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51476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120" y="5013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760" y="3986280"/>
            <a:ext cx="507960" cy="342720"/>
          </a:xfrm>
          <a:custGeom>
            <a:avLst/>
            <a:gdLst/>
            <a:ahLst/>
            <a:rect l="l" t="t" r="r" b="b"/>
            <a:pathLst>
              <a:path w="320" h="216">
                <a:moveTo>
                  <a:pt x="320" y="21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0" y="3701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6000" y="3933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351144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24160" y="422748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64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12240" y="431964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6200" y="4460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29680" y="3733920"/>
            <a:ext cx="475920" cy="336600"/>
          </a:xfrm>
          <a:custGeom>
            <a:avLst/>
            <a:gdLst/>
            <a:ahLst/>
            <a:rect l="l" t="t" r="r" b="b"/>
            <a:pathLst>
              <a:path w="300" h="212">
                <a:moveTo>
                  <a:pt x="300" y="21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92680" y="35514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60" y="242100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2276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6600960"/>
            <a:ext cx="72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808080"/>
                </a:solidFill>
                <a:latin typeface="Arial"/>
              </a:rPr>
              <a:t>Adapt the turn to Left /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6000" y="6718320"/>
            <a:ext cx="406440" cy="82440"/>
          </a:xfrm>
          <a:custGeom>
            <a:avLst/>
            <a:gdLst/>
            <a:ahLst/>
            <a:rect l="l" t="t" r="r" b="b"/>
            <a:pathLst>
              <a:path w="256" h="52">
                <a:moveTo>
                  <a:pt x="0" y="52"/>
                </a:moveTo>
                <a:lnTo>
                  <a:pt x="25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280" y="648504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/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843440" y="3522600"/>
            <a:ext cx="124956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0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32480" y="64944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50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606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449280"/>
            <a:ext cx="649440" cy="76500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18160" y="8827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53000" y="71928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29240" y="367992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95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87680" y="3867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48320" y="3479760"/>
            <a:ext cx="649440" cy="76536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49760" y="37497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43920" y="35496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37" y="485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27640" y="3790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8160" y="37623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51840" y="3535200"/>
            <a:ext cx="124920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99240" y="42782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64320" y="36734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4152960"/>
            <a:ext cx="633600" cy="106200"/>
          </a:xfrm>
          <a:custGeom>
            <a:avLst/>
            <a:gdLst/>
            <a:ahLst/>
            <a:rect l="l" t="t" r="r" b="b"/>
            <a:pathLst>
              <a:path w="399" h="67">
                <a:moveTo>
                  <a:pt x="399" y="6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2760" y="4968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44" y="452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690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47000" y="7095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88080" y="12254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3160" y="6206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16720" y="12063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324" y="0"/>
                </a:moveTo>
                <a:lnTo>
                  <a:pt x="0" y="18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93080" y="8683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80" y="3462480"/>
            <a:ext cx="1319040" cy="1371600"/>
          </a:xfrm>
          <a:custGeom>
            <a:avLst/>
            <a:gdLst/>
            <a:ahLst/>
            <a:rect l="l" t="t" r="r" b="b"/>
            <a:pathLst>
              <a:path w="831" h="864">
                <a:moveTo>
                  <a:pt x="831" y="283"/>
                </a:moveTo>
                <a:lnTo>
                  <a:pt x="456" y="488"/>
                </a:lnTo>
                <a:lnTo>
                  <a:pt x="768" y="560"/>
                </a:lnTo>
                <a:lnTo>
                  <a:pt x="680" y="864"/>
                </a:lnTo>
                <a:lnTo>
                  <a:pt x="0" y="336"/>
                </a:lnTo>
                <a:lnTo>
                  <a:pt x="673" y="0"/>
                </a:lnTo>
                <a:lnTo>
                  <a:pt x="831" y="2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0040" y="124632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74400" y="958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9400" y="1203480"/>
            <a:ext cx="990720" cy="52524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6000" y="87156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6800" y="428940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520" y="386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6160" y="4246560"/>
            <a:ext cx="990720" cy="52560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71600" y="3463920"/>
            <a:ext cx="1319400" cy="1359000"/>
          </a:xfrm>
          <a:custGeom>
            <a:avLst/>
            <a:gdLst/>
            <a:ahLst/>
            <a:rect l="l" t="t" r="r" b="b"/>
            <a:pathLst>
              <a:path w="831" h="856">
                <a:moveTo>
                  <a:pt x="831" y="275"/>
                </a:moveTo>
                <a:lnTo>
                  <a:pt x="456" y="480"/>
                </a:lnTo>
                <a:lnTo>
                  <a:pt x="768" y="552"/>
                </a:lnTo>
                <a:lnTo>
                  <a:pt x="680" y="856"/>
                </a:lnTo>
                <a:lnTo>
                  <a:pt x="0" y="328"/>
                </a:lnTo>
                <a:lnTo>
                  <a:pt x="640" y="0"/>
                </a:lnTo>
                <a:lnTo>
                  <a:pt x="831" y="27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33720" y="1104840"/>
            <a:ext cx="763560" cy="1498680"/>
          </a:xfrm>
          <a:custGeom>
            <a:avLst/>
            <a:gdLst/>
            <a:ahLst/>
            <a:rect l="l" t="t" r="r" b="b"/>
            <a:pathLst>
              <a:path w="481" h="944">
                <a:moveTo>
                  <a:pt x="0" y="944"/>
                </a:moveTo>
                <a:lnTo>
                  <a:pt x="12" y="48"/>
                </a:lnTo>
                <a:lnTo>
                  <a:pt x="481" y="0"/>
                </a:lnTo>
                <a:lnTo>
                  <a:pt x="378" y="526"/>
                </a:lnTo>
                <a:lnTo>
                  <a:pt x="0" y="9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76240" y="841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560" y="1079640"/>
            <a:ext cx="938160" cy="106200"/>
          </a:xfrm>
          <a:custGeom>
            <a:avLst/>
            <a:gdLst/>
            <a:ahLst/>
            <a:rect l="l" t="t" r="r" b="b"/>
            <a:pathLst>
              <a:path w="591" h="67">
                <a:moveTo>
                  <a:pt x="0" y="67"/>
                </a:moveTo>
                <a:lnTo>
                  <a:pt x="59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16160" y="8539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4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27240" y="4094280"/>
            <a:ext cx="803520" cy="1539720"/>
          </a:xfrm>
          <a:custGeom>
            <a:avLst/>
            <a:gdLst/>
            <a:ahLst/>
            <a:rect l="l" t="t" r="r" b="b"/>
            <a:pathLst>
              <a:path w="506" h="970">
                <a:moveTo>
                  <a:pt x="2" y="970"/>
                </a:moveTo>
                <a:lnTo>
                  <a:pt x="0" y="116"/>
                </a:lnTo>
                <a:lnTo>
                  <a:pt x="506" y="0"/>
                </a:lnTo>
                <a:lnTo>
                  <a:pt x="380" y="552"/>
                </a:lnTo>
                <a:lnTo>
                  <a:pt x="2" y="97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85680" y="3851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6320" y="4043520"/>
            <a:ext cx="974880" cy="185760"/>
          </a:xfrm>
          <a:custGeom>
            <a:avLst/>
            <a:gdLst/>
            <a:ahLst/>
            <a:rect l="l" t="t" r="r" b="b"/>
            <a:pathLst>
              <a:path w="614" h="117">
                <a:moveTo>
                  <a:pt x="0" y="117"/>
                </a:moveTo>
                <a:lnTo>
                  <a:pt x="6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1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680" y="230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520" y="1387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01200" y="11034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9760" y="66672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90440" y="5376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76280" y="350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62200" y="3830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54320" y="429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43720" y="121932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37000" y="14968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88400" y="698400"/>
            <a:ext cx="55872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224"/>
                </a:moveTo>
                <a:lnTo>
                  <a:pt x="35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95760" y="488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66160" y="3636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79480" y="1374840"/>
            <a:ext cx="555480" cy="288720"/>
          </a:xfrm>
          <a:custGeom>
            <a:avLst/>
            <a:gdLst/>
            <a:ahLst/>
            <a:rect l="l" t="t" r="r" b="b"/>
            <a:pathLst>
              <a:path w="350" h="182">
                <a:moveTo>
                  <a:pt x="0" y="0"/>
                </a:moveTo>
                <a:lnTo>
                  <a:pt x="350" y="18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14200" y="1641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787320"/>
            <a:ext cx="425520" cy="265320"/>
          </a:xfrm>
          <a:custGeom>
            <a:avLst/>
            <a:gdLst/>
            <a:ahLst/>
            <a:rect l="l" t="t" r="r" b="b"/>
            <a:pathLst>
              <a:path w="268" h="167">
                <a:moveTo>
                  <a:pt x="0" y="167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87400" y="679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4400" y="73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48000" y="4365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24720" y="414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4457880"/>
            <a:ext cx="457200" cy="8856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60800" y="4552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1360" y="428940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5428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1760" y="448308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71840" y="44751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84960" y="3683160"/>
            <a:ext cx="331560" cy="485640"/>
          </a:xfrm>
          <a:custGeom>
            <a:avLst/>
            <a:gdLst/>
            <a:ahLst/>
            <a:rect l="l" t="t" r="r" b="b"/>
            <a:pathLst>
              <a:path w="209" h="306">
                <a:moveTo>
                  <a:pt x="0" y="306"/>
                </a:moveTo>
                <a:lnTo>
                  <a:pt x="209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3480" y="3429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4000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5928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94480" y="4651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18080" y="1376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89800" y="3508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36960" y="5027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05400" y="40593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560" y="236232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840" y="5459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4184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17880" y="196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10640" y="1224000"/>
            <a:ext cx="536400" cy="1403280"/>
          </a:xfrm>
          <a:custGeom>
            <a:avLst/>
            <a:gdLst/>
            <a:ahLst/>
            <a:rect l="l" t="t" r="r" b="b"/>
            <a:pathLst>
              <a:path w="338" h="884">
                <a:moveTo>
                  <a:pt x="1" y="884"/>
                </a:moveTo>
                <a:lnTo>
                  <a:pt x="0" y="0"/>
                </a:lnTo>
                <a:lnTo>
                  <a:pt x="338" y="254"/>
                </a:lnTo>
                <a:lnTo>
                  <a:pt x="1" y="8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02720" y="1209600"/>
            <a:ext cx="747720" cy="557280"/>
          </a:xfrm>
          <a:custGeom>
            <a:avLst/>
            <a:gdLst/>
            <a:ahLst/>
            <a:rect l="l" t="t" r="r" b="b"/>
            <a:pathLst>
              <a:path w="471" h="351">
                <a:moveTo>
                  <a:pt x="0" y="0"/>
                </a:moveTo>
                <a:lnTo>
                  <a:pt x="471" y="35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3840" y="630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7520" y="1198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68760" y="43344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79840" y="407880"/>
            <a:ext cx="369720" cy="77328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7080" y="121284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3040" y="119700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5240" y="1352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588880" y="1001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2100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9696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916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08720" y="1216080"/>
            <a:ext cx="133380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385040" y="120024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36880" y="1355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05600" y="4248000"/>
            <a:ext cx="617760" cy="1425600"/>
          </a:xfrm>
          <a:custGeom>
            <a:avLst/>
            <a:gdLst/>
            <a:ahLst/>
            <a:rect l="l" t="t" r="r" b="b"/>
            <a:pathLst>
              <a:path w="389" h="898">
                <a:moveTo>
                  <a:pt x="4" y="898"/>
                </a:moveTo>
                <a:lnTo>
                  <a:pt x="0" y="0"/>
                </a:lnTo>
                <a:lnTo>
                  <a:pt x="389" y="172"/>
                </a:lnTo>
                <a:lnTo>
                  <a:pt x="4" y="8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02720" y="4255920"/>
            <a:ext cx="811080" cy="328680"/>
          </a:xfrm>
          <a:custGeom>
            <a:avLst/>
            <a:gdLst/>
            <a:ahLst/>
            <a:rect l="l" t="t" r="r" b="b"/>
            <a:pathLst>
              <a:path w="511" h="207">
                <a:moveTo>
                  <a:pt x="0" y="0"/>
                </a:moveTo>
                <a:lnTo>
                  <a:pt x="511" y="20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68760" y="347976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79840" y="3454560"/>
            <a:ext cx="369720" cy="77292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2760" y="384804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1520" y="4013280"/>
            <a:ext cx="1206720" cy="774720"/>
          </a:xfrm>
          <a:custGeom>
            <a:avLst/>
            <a:gdLst/>
            <a:ahLst/>
            <a:rect l="l" t="t" r="r" b="b"/>
            <a:pathLst>
              <a:path w="760" h="488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6" y="488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8920" y="4162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6060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936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2676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61280" y="3860640"/>
            <a:ext cx="1120680" cy="41148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50040" y="4025880"/>
            <a:ext cx="1206720" cy="800280"/>
          </a:xfrm>
          <a:custGeom>
            <a:avLst/>
            <a:gdLst/>
            <a:ahLst/>
            <a:rect l="l" t="t" r="r" b="b"/>
            <a:pathLst>
              <a:path w="760" h="504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0" y="504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27440" y="4200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588880" y="4048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45080" y="617400"/>
            <a:ext cx="598680" cy="1905120"/>
          </a:xfrm>
          <a:custGeom>
            <a:avLst/>
            <a:gdLst/>
            <a:ahLst/>
            <a:rect l="l" t="t" r="r" b="b"/>
            <a:pathLst>
              <a:path w="377" h="1200">
                <a:moveTo>
                  <a:pt x="8" y="1200"/>
                </a:moveTo>
                <a:lnTo>
                  <a:pt x="0" y="348"/>
                </a:lnTo>
                <a:lnTo>
                  <a:pt x="130" y="0"/>
                </a:lnTo>
                <a:lnTo>
                  <a:pt x="346" y="96"/>
                </a:lnTo>
                <a:lnTo>
                  <a:pt x="377" y="830"/>
                </a:lnTo>
                <a:lnTo>
                  <a:pt x="8" y="1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38960" y="376200"/>
            <a:ext cx="331560" cy="800280"/>
          </a:xfrm>
          <a:custGeom>
            <a:avLst/>
            <a:gdLst/>
            <a:ahLst/>
            <a:rect l="l" t="t" r="r" b="b"/>
            <a:pathLst>
              <a:path w="209" h="504">
                <a:moveTo>
                  <a:pt x="0" y="504"/>
                </a:moveTo>
                <a:lnTo>
                  <a:pt x="2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092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0688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5908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45080" y="36320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90" y="32"/>
                </a:lnTo>
                <a:lnTo>
                  <a:pt x="298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59480" y="3429000"/>
            <a:ext cx="191880" cy="798480"/>
          </a:xfrm>
          <a:custGeom>
            <a:avLst/>
            <a:gdLst/>
            <a:ahLst/>
            <a:rect l="l" t="t" r="r" b="b"/>
            <a:pathLst>
              <a:path w="121" h="503">
                <a:moveTo>
                  <a:pt x="0" y="503"/>
                </a:moveTo>
                <a:lnTo>
                  <a:pt x="12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7052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3668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74920" y="1201680"/>
            <a:ext cx="671400" cy="34920"/>
          </a:xfrm>
          <a:custGeom>
            <a:avLst/>
            <a:gdLst/>
            <a:ahLst/>
            <a:rect l="l" t="t" r="r" b="b"/>
            <a:pathLst>
              <a:path w="423" h="22">
                <a:moveTo>
                  <a:pt x="423" y="0"/>
                </a:moveTo>
                <a:lnTo>
                  <a:pt x="0" y="2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080" y="6714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4760" y="1476360"/>
            <a:ext cx="336600" cy="56340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3880" y="196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7160" y="1093680"/>
            <a:ext cx="743040" cy="241560"/>
          </a:xfrm>
          <a:custGeom>
            <a:avLst/>
            <a:gdLst/>
            <a:ahLst/>
            <a:rect l="l" t="t" r="r" b="b"/>
            <a:pathLst>
              <a:path w="468" h="152">
                <a:moveTo>
                  <a:pt x="0" y="0"/>
                </a:moveTo>
                <a:lnTo>
                  <a:pt x="468" y="15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15360" y="100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0560" y="1374840"/>
            <a:ext cx="598320" cy="231840"/>
          </a:xfrm>
          <a:custGeom>
            <a:avLst/>
            <a:gdLst/>
            <a:ahLst/>
            <a:rect l="l" t="t" r="r" b="b"/>
            <a:pathLst>
              <a:path w="377" h="146">
                <a:moveTo>
                  <a:pt x="0" y="0"/>
                </a:moveTo>
                <a:lnTo>
                  <a:pt x="377" y="14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33120" y="1577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79840" y="674640"/>
            <a:ext cx="253800" cy="45720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60" y="28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66560" y="498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3200" y="4292640"/>
            <a:ext cx="551160" cy="334800"/>
          </a:xfrm>
          <a:custGeom>
            <a:avLst/>
            <a:gdLst/>
            <a:ahLst/>
            <a:rect l="l" t="t" r="r" b="b"/>
            <a:pathLst>
              <a:path w="347" h="211">
                <a:moveTo>
                  <a:pt x="347" y="0"/>
                </a:moveTo>
                <a:lnTo>
                  <a:pt x="0" y="211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07520" y="35002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908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2440" y="453852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1920" y="5022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720960"/>
            <a:ext cx="552240" cy="409680"/>
          </a:xfrm>
          <a:custGeom>
            <a:avLst/>
            <a:gdLst/>
            <a:ahLst/>
            <a:rect l="l" t="t" r="r" b="b"/>
            <a:pathLst>
              <a:path w="348" h="258">
                <a:moveTo>
                  <a:pt x="0" y="258"/>
                </a:moveTo>
                <a:lnTo>
                  <a:pt x="34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39400" y="35575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70120" y="2602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3080" y="1139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560" y="2398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08400" y="958680"/>
            <a:ext cx="636480" cy="254160"/>
          </a:xfrm>
          <a:custGeom>
            <a:avLst/>
            <a:gdLst/>
            <a:ahLst/>
            <a:rect l="l" t="t" r="r" b="b"/>
            <a:pathLst>
              <a:path w="401" h="160">
                <a:moveTo>
                  <a:pt x="401" y="16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360" y="4137120"/>
            <a:ext cx="608040" cy="117360"/>
          </a:xfrm>
          <a:custGeom>
            <a:avLst/>
            <a:gdLst/>
            <a:ahLst/>
            <a:rect l="l" t="t" r="r" b="b"/>
            <a:pathLst>
              <a:path w="383" h="74">
                <a:moveTo>
                  <a:pt x="383" y="74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918560" y="1171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0040" y="11732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0200" y="11556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18560" y="4218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49760" y="11556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49760" y="4202280"/>
            <a:ext cx="180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5780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1492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57800" y="198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4840" y="1986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0500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1492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12080" y="433080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20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902720" y="4287960"/>
            <a:ext cx="582480" cy="474480"/>
          </a:xfrm>
          <a:custGeom>
            <a:avLst/>
            <a:gdLst/>
            <a:ahLst/>
            <a:rect l="l" t="t" r="r" b="b"/>
            <a:pathLst>
              <a:path w="367" h="299">
                <a:moveTo>
                  <a:pt x="0" y="0"/>
                </a:moveTo>
                <a:lnTo>
                  <a:pt x="367" y="29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3840" y="37432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7520" y="43117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08440" y="3641760"/>
            <a:ext cx="725400" cy="1994040"/>
          </a:xfrm>
          <a:custGeom>
            <a:avLst/>
            <a:gdLst/>
            <a:ahLst/>
            <a:rect l="l" t="t" r="r" b="b"/>
            <a:pathLst>
              <a:path w="457" h="1256">
                <a:moveTo>
                  <a:pt x="88" y="1256"/>
                </a:moveTo>
                <a:lnTo>
                  <a:pt x="80" y="416"/>
                </a:lnTo>
                <a:lnTo>
                  <a:pt x="0" y="128"/>
                </a:lnTo>
                <a:lnTo>
                  <a:pt x="360" y="0"/>
                </a:lnTo>
                <a:lnTo>
                  <a:pt x="457" y="886"/>
                </a:lnTo>
                <a:lnTo>
                  <a:pt x="8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68760" y="3552840"/>
            <a:ext cx="280800" cy="74124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200" y="4338720"/>
            <a:ext cx="1016280" cy="24264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1200" y="364176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28" y="416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4280" y="3645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15400" y="4478400"/>
            <a:ext cx="520560" cy="515880"/>
          </a:xfrm>
          <a:custGeom>
            <a:avLst/>
            <a:gdLst/>
            <a:ahLst/>
            <a:rect l="l" t="t" r="r" b="b"/>
            <a:pathLst>
              <a:path w="328" h="325">
                <a:moveTo>
                  <a:pt x="0" y="0"/>
                </a:moveTo>
                <a:lnTo>
                  <a:pt x="328" y="32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30920" y="47624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54800" y="443700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15120" y="4734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80" y="45529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5800" y="3728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22520" y="428148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22520" y="358452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4" y="427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3440" y="401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94400" y="4259160"/>
            <a:ext cx="101628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94400" y="356220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1" y="429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27480" y="36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912080" y="1319040"/>
            <a:ext cx="649440" cy="1374840"/>
          </a:xfrm>
          <a:custGeom>
            <a:avLst/>
            <a:gdLst/>
            <a:ahLst/>
            <a:rect l="l" t="t" r="r" b="b"/>
            <a:pathLst>
              <a:path w="409" h="866">
                <a:moveTo>
                  <a:pt x="0" y="866"/>
                </a:moveTo>
                <a:lnTo>
                  <a:pt x="1" y="0"/>
                </a:lnTo>
                <a:lnTo>
                  <a:pt x="409" y="12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957800" y="202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02720" y="1276200"/>
            <a:ext cx="861840" cy="284400"/>
          </a:xfrm>
          <a:custGeom>
            <a:avLst/>
            <a:gdLst/>
            <a:ahLst/>
            <a:rect l="l" t="t" r="r" b="b"/>
            <a:pathLst>
              <a:path w="543" h="179">
                <a:moveTo>
                  <a:pt x="0" y="0"/>
                </a:moveTo>
                <a:lnTo>
                  <a:pt x="543" y="17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3840" y="657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4840" y="1969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7520" y="1225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433440"/>
            <a:ext cx="814320" cy="2116080"/>
          </a:xfrm>
          <a:custGeom>
            <a:avLst/>
            <a:gdLst/>
            <a:ahLst/>
            <a:rect l="l" t="t" r="r" b="b"/>
            <a:pathLst>
              <a:path w="513" h="1333">
                <a:moveTo>
                  <a:pt x="144" y="1333"/>
                </a:moveTo>
                <a:lnTo>
                  <a:pt x="136" y="493"/>
                </a:lnTo>
                <a:lnTo>
                  <a:pt x="0" y="128"/>
                </a:lnTo>
                <a:lnTo>
                  <a:pt x="392" y="0"/>
                </a:lnTo>
                <a:lnTo>
                  <a:pt x="513" y="963"/>
                </a:lnTo>
                <a:lnTo>
                  <a:pt x="144" y="13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05000" y="195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68760" y="466560"/>
            <a:ext cx="280800" cy="74160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6000" y="94932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1640" y="555480"/>
            <a:ext cx="668520" cy="660600"/>
          </a:xfrm>
          <a:custGeom>
            <a:avLst/>
            <a:gdLst/>
            <a:ahLst/>
            <a:rect l="l" t="t" r="r" b="b"/>
            <a:pathLst>
              <a:path w="421" h="416">
                <a:moveTo>
                  <a:pt x="0" y="320"/>
                </a:moveTo>
                <a:lnTo>
                  <a:pt x="208" y="416"/>
                </a:lnTo>
                <a:lnTo>
                  <a:pt x="421" y="250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4280" y="60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489040" y="93024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5040" y="536400"/>
            <a:ext cx="681120" cy="660600"/>
          </a:xfrm>
          <a:custGeom>
            <a:avLst/>
            <a:gdLst/>
            <a:ahLst/>
            <a:rect l="l" t="t" r="r" b="b"/>
            <a:pathLst>
              <a:path w="429" h="416">
                <a:moveTo>
                  <a:pt x="0" y="320"/>
                </a:moveTo>
                <a:lnTo>
                  <a:pt x="208" y="416"/>
                </a:lnTo>
                <a:lnTo>
                  <a:pt x="429" y="253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47680" y="585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85040" y="1004760"/>
            <a:ext cx="914400" cy="30348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01040" y="611280"/>
            <a:ext cx="666720" cy="660240"/>
          </a:xfrm>
          <a:custGeom>
            <a:avLst/>
            <a:gdLst/>
            <a:ahLst/>
            <a:rect l="l" t="t" r="r" b="b"/>
            <a:pathLst>
              <a:path w="420" h="416">
                <a:moveTo>
                  <a:pt x="0" y="320"/>
                </a:moveTo>
                <a:lnTo>
                  <a:pt x="208" y="416"/>
                </a:lnTo>
                <a:lnTo>
                  <a:pt x="420" y="251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43320" y="66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04120" y="1274760"/>
            <a:ext cx="588960" cy="212760"/>
          </a:xfrm>
          <a:custGeom>
            <a:avLst/>
            <a:gdLst/>
            <a:ahLst/>
            <a:rect l="l" t="t" r="r" b="b"/>
            <a:pathLst>
              <a:path w="371" h="134">
                <a:moveTo>
                  <a:pt x="0" y="0"/>
                </a:moveTo>
                <a:lnTo>
                  <a:pt x="371" y="1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583480" y="1158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251840" y="1150920"/>
            <a:ext cx="404640" cy="201600"/>
          </a:xfrm>
          <a:custGeom>
            <a:avLst/>
            <a:gdLst/>
            <a:ahLst/>
            <a:rect l="l" t="t" r="r" b="b"/>
            <a:pathLst>
              <a:path w="255" h="127">
                <a:moveTo>
                  <a:pt x="255" y="12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75280" y="942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280" y="13352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95800" y="6429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18080" y="3720960"/>
            <a:ext cx="633600" cy="1922760"/>
          </a:xfrm>
          <a:custGeom>
            <a:avLst/>
            <a:gdLst/>
            <a:ahLst/>
            <a:rect l="l" t="t" r="r" b="b"/>
            <a:pathLst>
              <a:path w="399" h="1211">
                <a:moveTo>
                  <a:pt x="8" y="1211"/>
                </a:moveTo>
                <a:lnTo>
                  <a:pt x="0" y="371"/>
                </a:lnTo>
                <a:lnTo>
                  <a:pt x="135" y="0"/>
                </a:lnTo>
                <a:lnTo>
                  <a:pt x="399" y="88"/>
                </a:lnTo>
                <a:lnTo>
                  <a:pt x="377" y="841"/>
                </a:lnTo>
                <a:lnTo>
                  <a:pt x="8" y="121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32480" y="3517920"/>
            <a:ext cx="301680" cy="784080"/>
          </a:xfrm>
          <a:custGeom>
            <a:avLst/>
            <a:gdLst/>
            <a:ahLst/>
            <a:rect l="l" t="t" r="r" b="b"/>
            <a:pathLst>
              <a:path w="190" h="494">
                <a:moveTo>
                  <a:pt x="0" y="494"/>
                </a:moveTo>
                <a:lnTo>
                  <a:pt x="1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5440" y="428940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05440" y="359244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0" y="434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00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18080" y="598320"/>
            <a:ext cx="608040" cy="1959120"/>
          </a:xfrm>
          <a:custGeom>
            <a:avLst/>
            <a:gdLst/>
            <a:ahLst/>
            <a:rect l="l" t="t" r="r" b="b"/>
            <a:pathLst>
              <a:path w="383" h="1234">
                <a:moveTo>
                  <a:pt x="8" y="1234"/>
                </a:moveTo>
                <a:lnTo>
                  <a:pt x="0" y="394"/>
                </a:lnTo>
                <a:lnTo>
                  <a:pt x="135" y="0"/>
                </a:lnTo>
                <a:lnTo>
                  <a:pt x="383" y="128"/>
                </a:lnTo>
                <a:lnTo>
                  <a:pt x="377" y="864"/>
                </a:lnTo>
                <a:lnTo>
                  <a:pt x="8" y="12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87920" y="196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32480" y="395280"/>
            <a:ext cx="250920" cy="820800"/>
          </a:xfrm>
          <a:custGeom>
            <a:avLst/>
            <a:gdLst/>
            <a:ahLst/>
            <a:rect l="l" t="t" r="r" b="b"/>
            <a:pathLst>
              <a:path w="158" h="517">
                <a:moveTo>
                  <a:pt x="0" y="517"/>
                </a:moveTo>
                <a:lnTo>
                  <a:pt x="1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71960" y="93816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87960" y="544680"/>
            <a:ext cx="684360" cy="660240"/>
          </a:xfrm>
          <a:custGeom>
            <a:avLst/>
            <a:gdLst/>
            <a:ahLst/>
            <a:rect l="l" t="t" r="r" b="b"/>
            <a:pathLst>
              <a:path w="431" h="416">
                <a:moveTo>
                  <a:pt x="0" y="320"/>
                </a:moveTo>
                <a:lnTo>
                  <a:pt x="208" y="416"/>
                </a:lnTo>
                <a:lnTo>
                  <a:pt x="431" y="248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30600" y="593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16880" y="558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81520" y="3645000"/>
            <a:ext cx="292320" cy="635040"/>
          </a:xfrm>
          <a:custGeom>
            <a:avLst/>
            <a:gdLst/>
            <a:ahLst/>
            <a:rect l="l" t="t" r="r" b="b"/>
            <a:pathLst>
              <a:path w="184" h="400">
                <a:moveTo>
                  <a:pt x="0" y="400"/>
                </a:moveTo>
                <a:lnTo>
                  <a:pt x="18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68440" y="35002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964040" y="447984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24000" y="4776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7400" y="4302000"/>
            <a:ext cx="609480" cy="3240"/>
          </a:xfrm>
          <a:custGeom>
            <a:avLst/>
            <a:gdLst/>
            <a:ahLst/>
            <a:rect l="l" t="t" r="r" b="b"/>
            <a:pathLst>
              <a:path w="384" h="2">
                <a:moveTo>
                  <a:pt x="0" y="0"/>
                </a:moveTo>
                <a:lnTo>
                  <a:pt x="384" y="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86600" y="42418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49560" y="3346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560" y="2371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840" y="553068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921800" y="42609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73280" y="4284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3080" y="4267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21800" y="124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73280" y="1198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3080" y="118116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26000" y="42750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26000" y="1189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95780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4840" y="5056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105000" y="5038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87920" y="5046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2-15T21:19:46Z</dcterms:modified>
  <cp:revision>154</cp:revision>
  <dc:subject/>
  <dc:title>Slide 1</dc:title>
</cp:coreProperties>
</file>